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9.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53.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14.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 id="415" r:id="rId168"/>
    <p:sldId id="416" r:id="rId169"/>
    <p:sldId id="417" r:id="rId170"/>
    <p:sldId id="418" r:id="rId171"/>
    <p:sldId id="419" r:id="rId172"/>
    <p:sldId id="420" r:id="rId173"/>
    <p:sldId id="421" r:id="rId174"/>
    <p:sldId id="422" r:id="rId175"/>
    <p:sldId id="423" r:id="rId176"/>
    <p:sldId id="424" r:id="rId177"/>
    <p:sldId id="425" r:id="rId178"/>
    <p:sldId id="426" r:id="rId179"/>
    <p:sldId id="427" r:id="rId180"/>
    <p:sldId id="428" r:id="rId181"/>
    <p:sldId id="429" r:id="rId182"/>
    <p:sldId id="430" r:id="rId183"/>
    <p:sldId id="431" r:id="rId184"/>
    <p:sldId id="432" r:id="rId185"/>
    <p:sldId id="433" r:id="rId186"/>
    <p:sldId id="434" r:id="rId187"/>
    <p:sldId id="435" r:id="rId188"/>
    <p:sldId id="436" r:id="rId189"/>
    <p:sldId id="437" r:id="rId190"/>
    <p:sldId id="438" r:id="rId191"/>
    <p:sldId id="439" r:id="rId192"/>
    <p:sldId id="440" r:id="rId193"/>
    <p:sldId id="441" r:id="rId194"/>
    <p:sldId id="442" r:id="rId195"/>
    <p:sldId id="443" r:id="rId196"/>
    <p:sldId id="444" r:id="rId197"/>
    <p:sldId id="445" r:id="rId198"/>
    <p:sldId id="446" r:id="rId199"/>
    <p:sldId id="447" r:id="rId200"/>
    <p:sldId id="448" r:id="rId201"/>
    <p:sldId id="449" r:id="rId202"/>
    <p:sldId id="450" r:id="rId203"/>
    <p:sldId id="451" r:id="rId204"/>
    <p:sldId id="452" r:id="rId205"/>
    <p:sldId id="453" r:id="rId206"/>
    <p:sldId id="454" r:id="rId207"/>
    <p:sldId id="455" r:id="rId208"/>
    <p:sldId id="456" r:id="rId209"/>
    <p:sldId id="457" r:id="rId210"/>
    <p:sldId id="458" r:id="rId211"/>
    <p:sldId id="459" r:id="rId212"/>
    <p:sldId id="460" r:id="rId213"/>
    <p:sldId id="461" r:id="rId214"/>
    <p:sldId id="462" r:id="rId215"/>
    <p:sldId id="463" r:id="rId216"/>
    <p:sldId id="464" r:id="rId217"/>
    <p:sldId id="465" r:id="rId218"/>
    <p:sldId id="466" r:id="rId219"/>
    <p:sldId id="467" r:id="rId220"/>
    <p:sldId id="468" r:id="rId221"/>
    <p:sldId id="469" r:id="rId222"/>
    <p:sldId id="470" r:id="rId223"/>
    <p:sldId id="471" r:id="rId224"/>
    <p:sldId id="472" r:id="rId225"/>
    <p:sldId id="473" r:id="rId226"/>
    <p:sldId id="474" r:id="rId227"/>
    <p:sldId id="475" r:id="rId228"/>
    <p:sldId id="476" r:id="rId229"/>
    <p:sldId id="477" r:id="rId230"/>
    <p:sldId id="478" r:id="rId231"/>
    <p:sldId id="479" r:id="rId232"/>
    <p:sldId id="480" r:id="rId233"/>
    <p:sldId id="481"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slide" Target="slides/slide160.xml"/><Relationship Id="rId169" Type="http://schemas.openxmlformats.org/officeDocument/2006/relationships/slide" Target="slides/slide161.xml"/><Relationship Id="rId170" Type="http://schemas.openxmlformats.org/officeDocument/2006/relationships/slide" Target="slides/slide162.xml"/><Relationship Id="rId171" Type="http://schemas.openxmlformats.org/officeDocument/2006/relationships/slide" Target="slides/slide163.xml"/><Relationship Id="rId172" Type="http://schemas.openxmlformats.org/officeDocument/2006/relationships/slide" Target="slides/slide164.xml"/><Relationship Id="rId173" Type="http://schemas.openxmlformats.org/officeDocument/2006/relationships/slide" Target="slides/slide165.xml"/><Relationship Id="rId174" Type="http://schemas.openxmlformats.org/officeDocument/2006/relationships/slide" Target="slides/slide166.xml"/><Relationship Id="rId175" Type="http://schemas.openxmlformats.org/officeDocument/2006/relationships/slide" Target="slides/slide167.xml"/><Relationship Id="rId176" Type="http://schemas.openxmlformats.org/officeDocument/2006/relationships/slide" Target="slides/slide168.xml"/><Relationship Id="rId177" Type="http://schemas.openxmlformats.org/officeDocument/2006/relationships/slide" Target="slides/slide169.xml"/><Relationship Id="rId178" Type="http://schemas.openxmlformats.org/officeDocument/2006/relationships/slide" Target="slides/slide170.xml"/><Relationship Id="rId179" Type="http://schemas.openxmlformats.org/officeDocument/2006/relationships/slide" Target="slides/slide171.xml"/><Relationship Id="rId180" Type="http://schemas.openxmlformats.org/officeDocument/2006/relationships/slide" Target="slides/slide172.xml"/><Relationship Id="rId181" Type="http://schemas.openxmlformats.org/officeDocument/2006/relationships/slide" Target="slides/slide173.xml"/><Relationship Id="rId182" Type="http://schemas.openxmlformats.org/officeDocument/2006/relationships/slide" Target="slides/slide174.xml"/><Relationship Id="rId183" Type="http://schemas.openxmlformats.org/officeDocument/2006/relationships/slide" Target="slides/slide175.xml"/><Relationship Id="rId184" Type="http://schemas.openxmlformats.org/officeDocument/2006/relationships/slide" Target="slides/slide176.xml"/><Relationship Id="rId185" Type="http://schemas.openxmlformats.org/officeDocument/2006/relationships/slide" Target="slides/slide177.xml"/><Relationship Id="rId186" Type="http://schemas.openxmlformats.org/officeDocument/2006/relationships/slide" Target="slides/slide178.xml"/><Relationship Id="rId187" Type="http://schemas.openxmlformats.org/officeDocument/2006/relationships/slide" Target="slides/slide179.xml"/><Relationship Id="rId188" Type="http://schemas.openxmlformats.org/officeDocument/2006/relationships/slide" Target="slides/slide180.xml"/><Relationship Id="rId189" Type="http://schemas.openxmlformats.org/officeDocument/2006/relationships/slide" Target="slides/slide181.xml"/><Relationship Id="rId190" Type="http://schemas.openxmlformats.org/officeDocument/2006/relationships/slide" Target="slides/slide182.xml"/><Relationship Id="rId191" Type="http://schemas.openxmlformats.org/officeDocument/2006/relationships/slide" Target="slides/slide183.xml"/><Relationship Id="rId192" Type="http://schemas.openxmlformats.org/officeDocument/2006/relationships/slide" Target="slides/slide184.xml"/><Relationship Id="rId193" Type="http://schemas.openxmlformats.org/officeDocument/2006/relationships/slide" Target="slides/slide185.xml"/><Relationship Id="rId194" Type="http://schemas.openxmlformats.org/officeDocument/2006/relationships/slide" Target="slides/slide186.xml"/><Relationship Id="rId195" Type="http://schemas.openxmlformats.org/officeDocument/2006/relationships/slide" Target="slides/slide187.xml"/><Relationship Id="rId196" Type="http://schemas.openxmlformats.org/officeDocument/2006/relationships/slide" Target="slides/slide188.xml"/><Relationship Id="rId197" Type="http://schemas.openxmlformats.org/officeDocument/2006/relationships/slide" Target="slides/slide189.xml"/><Relationship Id="rId198" Type="http://schemas.openxmlformats.org/officeDocument/2006/relationships/slide" Target="slides/slide190.xml"/><Relationship Id="rId199" Type="http://schemas.openxmlformats.org/officeDocument/2006/relationships/slide" Target="slides/slide191.xml"/><Relationship Id="rId200" Type="http://schemas.openxmlformats.org/officeDocument/2006/relationships/slide" Target="slides/slide192.xml"/><Relationship Id="rId201" Type="http://schemas.openxmlformats.org/officeDocument/2006/relationships/slide" Target="slides/slide193.xml"/><Relationship Id="rId202" Type="http://schemas.openxmlformats.org/officeDocument/2006/relationships/slide" Target="slides/slide194.xml"/><Relationship Id="rId203" Type="http://schemas.openxmlformats.org/officeDocument/2006/relationships/slide" Target="slides/slide195.xml"/><Relationship Id="rId204" Type="http://schemas.openxmlformats.org/officeDocument/2006/relationships/slide" Target="slides/slide196.xml"/><Relationship Id="rId205" Type="http://schemas.openxmlformats.org/officeDocument/2006/relationships/slide" Target="slides/slide197.xml"/><Relationship Id="rId206" Type="http://schemas.openxmlformats.org/officeDocument/2006/relationships/slide" Target="slides/slide198.xml"/><Relationship Id="rId207" Type="http://schemas.openxmlformats.org/officeDocument/2006/relationships/slide" Target="slides/slide199.xml"/><Relationship Id="rId208" Type="http://schemas.openxmlformats.org/officeDocument/2006/relationships/slide" Target="slides/slide200.xml"/><Relationship Id="rId209" Type="http://schemas.openxmlformats.org/officeDocument/2006/relationships/slide" Target="slides/slide201.xml"/><Relationship Id="rId210" Type="http://schemas.openxmlformats.org/officeDocument/2006/relationships/slide" Target="slides/slide202.xml"/><Relationship Id="rId211" Type="http://schemas.openxmlformats.org/officeDocument/2006/relationships/slide" Target="slides/slide203.xml"/><Relationship Id="rId212" Type="http://schemas.openxmlformats.org/officeDocument/2006/relationships/slide" Target="slides/slide204.xml"/><Relationship Id="rId213" Type="http://schemas.openxmlformats.org/officeDocument/2006/relationships/slide" Target="slides/slide205.xml"/><Relationship Id="rId214" Type="http://schemas.openxmlformats.org/officeDocument/2006/relationships/slide" Target="slides/slide206.xml"/><Relationship Id="rId215" Type="http://schemas.openxmlformats.org/officeDocument/2006/relationships/slide" Target="slides/slide207.xml"/><Relationship Id="rId216" Type="http://schemas.openxmlformats.org/officeDocument/2006/relationships/slide" Target="slides/slide208.xml"/><Relationship Id="rId217" Type="http://schemas.openxmlformats.org/officeDocument/2006/relationships/slide" Target="slides/slide209.xml"/><Relationship Id="rId218" Type="http://schemas.openxmlformats.org/officeDocument/2006/relationships/slide" Target="slides/slide210.xml"/><Relationship Id="rId219" Type="http://schemas.openxmlformats.org/officeDocument/2006/relationships/slide" Target="slides/slide211.xml"/><Relationship Id="rId220" Type="http://schemas.openxmlformats.org/officeDocument/2006/relationships/slide" Target="slides/slide212.xml"/><Relationship Id="rId221" Type="http://schemas.openxmlformats.org/officeDocument/2006/relationships/slide" Target="slides/slide213.xml"/><Relationship Id="rId222" Type="http://schemas.openxmlformats.org/officeDocument/2006/relationships/slide" Target="slides/slide214.xml"/><Relationship Id="rId223" Type="http://schemas.openxmlformats.org/officeDocument/2006/relationships/slide" Target="slides/slide215.xml"/><Relationship Id="rId224" Type="http://schemas.openxmlformats.org/officeDocument/2006/relationships/slide" Target="slides/slide216.xml"/><Relationship Id="rId225" Type="http://schemas.openxmlformats.org/officeDocument/2006/relationships/slide" Target="slides/slide217.xml"/><Relationship Id="rId226" Type="http://schemas.openxmlformats.org/officeDocument/2006/relationships/slide" Target="slides/slide218.xml"/><Relationship Id="rId227" Type="http://schemas.openxmlformats.org/officeDocument/2006/relationships/slide" Target="slides/slide219.xml"/><Relationship Id="rId228" Type="http://schemas.openxmlformats.org/officeDocument/2006/relationships/slide" Target="slides/slide220.xml"/><Relationship Id="rId229" Type="http://schemas.openxmlformats.org/officeDocument/2006/relationships/slide" Target="slides/slide221.xml"/><Relationship Id="rId230" Type="http://schemas.openxmlformats.org/officeDocument/2006/relationships/slide" Target="slides/slide222.xml"/><Relationship Id="rId231" Type="http://schemas.openxmlformats.org/officeDocument/2006/relationships/slide" Target="slides/slide223.xml"/><Relationship Id="rId232" Type="http://schemas.openxmlformats.org/officeDocument/2006/relationships/slide" Target="slides/slide224.xml"/><Relationship Id="rId233" Type="http://schemas.openxmlformats.org/officeDocument/2006/relationships/slide" Target="slides/slide225.xml"/><Relationship Id="rId234" Type="http://schemas.openxmlformats.org/officeDocument/2006/relationships/slide" Target="slides/slide226.xml"/><Relationship Id="rId2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101F1-F783-4FB6-8467-3CEFAF25D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11E86-8186-4C26-A3EB-AAC791B7F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89FBE-A6D2-4441-A4A5-6B1341218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B9199-A3F3-4220-A755-3148B8353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7993E-D5CE-4CD2-B989-46352D896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3EBFE-EA5A-4254-A289-3D28BDFC6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45374-A666-4CCF-B0D8-688F09D78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68449-FB0F-43F6-9776-228DBC007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8B2D2-1538-4C1A-9BE8-F29E52AFB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6F46F-C5EF-4ACB-AB5E-B2FED5497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D377B-D449-4375-8F07-9C4F8890B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18DD0-DF62-40B4-B0A2-4252AD71D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6B4EA-320B-400B-9997-6836A463F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89BC3-2801-4E9E-BCEC-7BB8E950A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1872E-0C11-4CCA-AD32-68979F9AE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855D4-7AF5-44EB-8B56-E759109F6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20FF5-6B70-470F-A467-B484FF6C2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B6FE65E-945D-4A8A-B0B5-B86B5EF5FB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128BA6-6FFB-42E9-9D57-8D4132B67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81F447-961D-4691-AF13-D088C5A05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6DADE4-D570-45C1-987F-E5725FC33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53BFA7-3DB8-4ABA-AF09-24A467E57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A1228-70B9-49FB-998E-5A4B9CD67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F032A4-E9B6-49A2-8F31-B4194D5CA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60835A-C19C-4B56-B74B-E93CEE9F8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A13529-19BA-472D-B4F6-76251AB7F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B1C233-617E-4A11-B0A9-5E193F74F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3ED818-1AA3-4C4A-9035-C68E0FC2A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C2D5B0-5A05-45A5-A09C-431CEEC1AE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B1F5906-EA07-4D79-8670-AA9A2B867A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A1824F-F46B-48A7-96B2-E92EB22660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A72AB-A613-481F-988D-718A39A62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6C94C6-F8F8-4AB4-AAC3-7350F088B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E1791-F95A-4137-8184-FBA5CF218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22FA72-8A9F-4CFB-A460-A0F6853A50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B99E1-1E0A-4B23-9DE0-922B272AC9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69E65E-2A1F-4621-BE91-24D335D829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7D74FD-736A-40A0-A7B6-10E6A692C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D6941-082B-4C98-8AD7-E7CE47BC8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5499C-CEA3-4E07-8287-252340EF3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CBCA9E-2315-48A8-ACA4-D867F26E87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BF332B-884E-4F9B-AE12-F8AD5F119E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629F8A-F198-44BD-AFB3-20C4D15713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66909E2-8303-486F-8DD8-2B5671312F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B4043-CF81-4B10-B2B9-9595B810D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DB97CD-A6EC-4806-91F2-9DD13E5ABF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50987A-D012-4F6A-A33A-0B142830D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025149-97CE-4F4E-A747-7BB3409FA0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96D46C-D1BB-48A7-9815-E2BC5ED5D3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8EF842-3523-4A99-B45A-A42F38B885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DEF3D1-48BA-4903-B828-7E40B99E8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1E9D73-128A-4CF7-87A2-7A7C85940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375768-0F93-49EF-B82C-66054B977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C6E160-C8E5-4DFC-802A-456D78543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759E2E-A100-418F-907F-EF7A19949F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D1C07-40F2-4668-902F-15B3DB58A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8818005-1D89-44D1-AF02-4B0391716D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F413D3D-4329-4063-B6EE-95BA656062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E734CF9-1EA2-41A9-A18A-204970E5F7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6C4F741-47A4-4734-BDD5-12189D9CAA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361BCA1-2622-42FB-BA6A-E87C98D72D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40AEEEF-0D41-4A86-AA58-F10FAF68C3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7453044-05B7-4075-9131-389C1FF04D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5391C3-CC65-400A-BBE4-42103FFF3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093152E-4D1E-451D-AD77-12EA7FAA1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8BE1F9-AEF1-4199-B48C-3CAB7E852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ECC6-A7FA-4C21-8DD4-17B7DA178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BA7BED2-8046-4B01-A02D-31470C9320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AAA2F19-578E-465C-91F0-04C41CDAF5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2AEA495-F4D8-4461-A2BF-7A1F39CC04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2C1CB63-4D84-43BB-BD54-0369EA653D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4A050C0-A47D-4744-AD3D-935196D2B5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2153FB-802D-4F55-AA3A-FECCD554FA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F46B3A-B7C8-468A-8D10-194361402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E061AF5-DAB8-443E-8585-290FC6643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FF6DC98-7821-4EEF-A123-FF5FBDADE8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307B2E-6E0E-4B30-9AC8-19E3F2637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BDF26-7F27-4E91-8402-DB4C3CCE2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CC359A-B263-40B5-BC00-7D29390DA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73A3EB-6E78-4A32-8106-0C2DA614E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CFBCAB3-EFEA-47B5-8825-A4FE5945A2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C2DB5F4-9460-4C92-955E-35E84F1513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F755B65-F50A-4CAF-BCBA-48059B1360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76F31-C023-4A5A-850E-A20C5C829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F1A6-CC03-46C1-8802-D05C46C2DB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D1C3-F2CD-4629-AE10-4B9DF24CD1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7B0A-F778-4A9A-995A-FF88BE5525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7FA4-B057-420A-A7EF-03D3CEBE0C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ADED-295D-401A-95AE-2B5321DC8D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CC50-4021-4150-A98C-ABEAF99BD2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1C40-3F11-4952-B272-BB5D3C48F3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txBox="1"/>
          <p:nvPr/>
        </p:nvSpPr>
        <p:spPr>
          <a:xfrm>
            <a:off x="0" y="0"/>
            <a:ext cx="9144000" cy="6858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GASTRO-INTESTINAL TRACT</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0" y="0"/>
            <a:ext cx="9144000" cy="6858000"/>
          </a:xfrm>
          <a:prstGeom prst="rect">
            <a:avLst/>
          </a:prstGeom>
          <a:noFill/>
          <a:ln w="9360">
            <a:solidFill>
              <a:srgbClr val="000000"/>
            </a:solidFill>
            <a:miter/>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wo groups of organs compose the digestive system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1 The gastrointestinal trac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2 accessory digestive Organ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e </a:t>
            </a:r>
            <a:r>
              <a:rPr b="1" lang="en-US" sz="2400" spc="-1" strike="noStrike">
                <a:solidFill>
                  <a:srgbClr val="000000"/>
                </a:solidFill>
                <a:latin typeface="Century Schoolbook"/>
              </a:rPr>
              <a:t>gastrointertinal tract or alimentary canal</a:t>
            </a:r>
            <a:r>
              <a:rPr b="0" lang="en-US" sz="2400" spc="-1" strike="noStrike">
                <a:solidFill>
                  <a:srgbClr val="000000"/>
                </a:solidFill>
                <a:latin typeface="Century Schoolbook"/>
              </a:rPr>
              <a:t> (alimentary-nourishment), is a continous tube that extends from the mouth to anus organs if the gastrointestinal tract include the</a:t>
            </a:r>
            <a:endParaRPr b="0" lang="en-US" sz="2400" spc="-1" strike="noStrike">
              <a:solidFill>
                <a:srgbClr val="000000"/>
              </a:solidFill>
              <a:latin typeface="Century Schoolbook"/>
            </a:endParaRPr>
          </a:p>
          <a:p>
            <a:pPr marL="272880" indent="-2728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outh </a:t>
            </a:r>
            <a:endParaRPr b="0" lang="en-US" sz="2400" spc="-1" strike="noStrike">
              <a:solidFill>
                <a:srgbClr val="000000"/>
              </a:solidFill>
              <a:latin typeface="Century Schoolbook"/>
            </a:endParaRPr>
          </a:p>
          <a:p>
            <a:pPr marL="272880" indent="-2728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ust if the pharynx</a:t>
            </a:r>
            <a:endParaRPr b="0" lang="en-US" sz="2400" spc="-1" strike="noStrike">
              <a:solidFill>
                <a:srgbClr val="000000"/>
              </a:solidFill>
              <a:latin typeface="Century Schoolbook"/>
            </a:endParaRPr>
          </a:p>
          <a:p>
            <a:pPr marL="272880" indent="-2728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sophagu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ction of Trypsin:- i) Digestive Action:- Trypsin is the most powerful protien splitting enzymes. It converts protien into peoteosis and polypeptidase.</a:t>
            </a:r>
            <a:endParaRPr b="0" lang="en-US" sz="2800" spc="-1" strike="noStrike">
              <a:solidFill>
                <a:srgbClr val="000000"/>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 At a PH of 8-9 trypsin curdles the Milk.</a:t>
            </a:r>
            <a:endParaRPr b="0" lang="en-US" sz="2800" spc="-1" strike="noStrike">
              <a:solidFill>
                <a:srgbClr val="000000"/>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i) It accelerates blood clotting.</a:t>
            </a:r>
            <a:endParaRPr b="0" lang="en-US" sz="2800" spc="-1" strike="noStrike">
              <a:solidFill>
                <a:srgbClr val="000000"/>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v) Tyrpsin also activate other enzymes of pancreatic juice- It converts:</a:t>
            </a:r>
            <a:endParaRPr b="0" lang="en-US" sz="2800" spc="-1" strike="noStrike">
              <a:solidFill>
                <a:srgbClr val="000000"/>
              </a:solidFill>
              <a:latin typeface="Century Schoolbook"/>
            </a:endParaRPr>
          </a:p>
          <a:p>
            <a:pPr marL="261720" indent="-26172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hymotrypsinogen into chymotrypsin.</a:t>
            </a:r>
            <a:endParaRPr b="0" lang="en-US" sz="2800" spc="-1" strike="noStrike">
              <a:solidFill>
                <a:srgbClr val="000000"/>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 Chymotrypsin:- Chymptrypsin is  secreated as inactive chymotrypsinogen. Chymotrypsinogen converted into chymotrypsin.</a:t>
            </a:r>
            <a:endParaRPr b="0" lang="en-US" sz="2800" spc="-1" strike="noStrike">
              <a:solidFill>
                <a:srgbClr val="000000"/>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ction of chymotrypsin:-</a:t>
            </a:r>
            <a:endParaRPr b="0" lang="en-US" sz="2800" spc="-1" strike="noStrike">
              <a:solidFill>
                <a:srgbClr val="000000"/>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1) Digestive action:- It hydrolyses the protiens into polypeptides.</a:t>
            </a:r>
            <a:endParaRPr b="0" lang="en-US" sz="2800" spc="-1" strike="noStrike">
              <a:solidFill>
                <a:srgbClr val="000000"/>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txBox="1"/>
          <p:nvPr/>
        </p:nvSpPr>
        <p:spPr>
          <a:xfrm>
            <a:off x="0" y="0"/>
            <a:ext cx="9144000" cy="6858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2) Digestion of milk:- Digests casein faster than trypsin. The combination of both enzymes cause rapid digestion of milk. It doesn’t affect blood clotting. </a:t>
            </a: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C) Carboxypeptidase:-  Pro carboxypeptidase is the precurser of carboxypeptidase. Pro carboxypeptidase is activated into carboxypeptidase by trypsin.</a:t>
            </a: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Action of Carboxypeptiadase:- Carboxypeptidase breaks the terminal bond of protein molecules so it is callerd exopeptidase. It splitts polypeptidase into amino acids.</a:t>
            </a: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D) Nucleases:- The nucleases present in pancreatic juice are ribonucleas and deoxyribonuclease which are responsible for the digestion of nucleic acids into mono nucleotides.</a:t>
            </a: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E) Elastase:- Proelastase is activated into elastase by trypsin. Elastase is important enzyme which digest the elastic fibres.</a:t>
            </a: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F) Collagenase:- This enzyme is also activated by trypsin.  Collagenase causes digestion of collagen </a:t>
            </a: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txBox="1"/>
          <p:nvPr/>
        </p:nvSpPr>
        <p:spPr>
          <a:xfrm>
            <a:off x="0" y="0"/>
            <a:ext cx="9144000" cy="6858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a:t>
            </a:r>
            <a:r>
              <a:rPr b="1" lang="en-US" sz="2800" spc="-1" strike="noStrike">
                <a:solidFill>
                  <a:srgbClr val="000000"/>
                </a:solidFill>
                <a:latin typeface="Century Schoolbook"/>
              </a:rPr>
              <a:t>Digstion of lipid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 Pancreatic lypase.  It is a powerfull  lypolitic enzyme. It converts triglycerides into monoglycerides and fatty acid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optimum PH required for this enzyme is 7-9.</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 Phospholypase-A:- It acts on phospholipids. It converts lacithin into isolasithin and cephalin into lysocephalin.</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 Phospholypase-B:- This enzyme acts on lysophospholipids i.e lysolacithin and lysocephlin and converts them into phosphosyl coline.</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Digestion of carbohydrates:- Pancreatic amalyse is the only amylolytic enzymes present in pancreatic juice its action on carbohyadrates is like that of salivary. It converts starch into maltose.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Neutralizing action of pancreatic juice:-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hen acid chyme enters intestine stomach immediately pancreatic juice with more bicarbonate is secreated and released into intestine. Due to the presence of large quantity of  bicarbonate ions, the pancreatic juice is highly alkalin. Because of this pancreatic juice neutralises acidity of chyme in the intestine. This is an important function because the acid chyme can damage the intestinal mucus membrane. Thus the pancreatic juice protects the intestine from acid chym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Mechanism of pancreatic secrea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1) Secreation of pancreatic enzymes:- The pancraetic enzymes are synthesized in ribisomes, which are attach to the endoplasmic reticulam of acinar cell in pancreas. The raw materials for the synthesis of pancreatic enzymes are the amino acids. The amino acids are derived from the blood.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se enzymes synthesized in the ribosomes are packed into different zymogen granules by golgi apparatus and stored in cytoplasm.</a:t>
            </a:r>
            <a:r>
              <a:rPr b="1"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n stimulated, the acinar cells release the zymogen granules into the pancreatic duct. From the granules, the enzymes are liberates into intestine where these enzymes are activated.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Secreation of bicarbonate ions:- The bicarbonate ion of pancreatic juice are secreated from the cells of ducts in pancreas.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various stages in the mechanism of secreation of bicarbonate ions are as follow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 The co2 derived from blood or metabolic process combines with water inside the cell to form carbonic acids in the presence of carbonic anhydras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0" y="0"/>
            <a:ext cx="9144000" cy="6858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 Carbonic acid dissociates into hydrogen and bicarbonate ion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i) Bicarbonates ions are actively transport out of the cells into lumen.</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Regulation of pancreatic secreation:</a:t>
            </a:r>
            <a:r>
              <a:rPr b="0" lang="en-US" sz="2800" spc="-1" strike="noStrike">
                <a:solidFill>
                  <a:srgbClr val="000000"/>
                </a:solidFill>
                <a:latin typeface="Century Schoolbook"/>
              </a:rPr>
              <a:t>- The factors are involved in the regulation of pancreatic juice secreation.</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ervous factor-mostly vagous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armonal factor-gastrin, secretine and cck.</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i="1" lang="en-US" sz="2800" spc="-1" strike="noStrike" u="sng">
                <a:solidFill>
                  <a:srgbClr val="000000"/>
                </a:solidFill>
                <a:uFillTx/>
                <a:latin typeface="Century Schoolbook"/>
              </a:rPr>
              <a:t>Stages of pancreatic secreation;- </a:t>
            </a:r>
            <a:r>
              <a:rPr b="0" lang="en-US" sz="2800" spc="-1" strike="noStrike">
                <a:solidFill>
                  <a:srgbClr val="000000"/>
                </a:solidFill>
                <a:latin typeface="Century Schoolbook"/>
              </a:rPr>
              <a:t>The secreation of pancreatic juice occurs in 3 stage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a:t>
            </a:r>
            <a:r>
              <a:rPr b="1" lang="en-US" sz="2800" spc="-1" strike="noStrike">
                <a:solidFill>
                  <a:srgbClr val="000000"/>
                </a:solidFill>
                <a:latin typeface="Century Schoolbook"/>
              </a:rPr>
              <a:t>) Cephalic phase</a:t>
            </a:r>
            <a:r>
              <a:rPr b="0" lang="en-US" sz="2800" spc="-1" strike="noStrike">
                <a:solidFill>
                  <a:srgbClr val="000000"/>
                </a:solidFill>
                <a:latin typeface="Century Schoolbook"/>
              </a:rPr>
              <a:t>:- When food is inside the mouth there is screation of pancreatic juice. Site, smell and thought of  the food also cause secreation of pancreatic juice by conditional reflex.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fferent nerves impulses from mouth from the cerebral cortex reach the dorsal nucleus vagous and then pancrease. The vagal nerve fibre cause the secreation of pancreatic juice by releasing acityle cholin which stimulates the acinar cells to secreate enzyme.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a:t>
            </a:r>
            <a:r>
              <a:rPr b="1" lang="en-US" sz="2800" spc="-1" strike="noStrike">
                <a:solidFill>
                  <a:srgbClr val="000000"/>
                </a:solidFill>
                <a:latin typeface="Century Schoolbook"/>
              </a:rPr>
              <a:t>Gastric Phase:- </a:t>
            </a:r>
            <a:r>
              <a:rPr b="0" lang="en-US" sz="2800" spc="-1" strike="noStrike">
                <a:solidFill>
                  <a:srgbClr val="000000"/>
                </a:solidFill>
                <a:latin typeface="Century Schoolbook"/>
              </a:rPr>
              <a:t>When food enters stomach the nervous mechanism may continue but the important factor is gastrin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Gastrine is the GI harmone secreated from stomach when food enters the stomach and it is transported by blood while reaching the pancreas it causes release of pancreatic juic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pancreatic juice secreated during gastric phase contains more enzymes as stimulates the acinar cell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Intestinal phase:- When the chyme from stomach enters the intestine more amount of pancreatic juice is secreated. Due to the 2 harmones :-a) Secretin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 Cck.</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Applied Physiology:-</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Pancreatitis:</a:t>
            </a:r>
            <a:r>
              <a:rPr b="0" lang="en-US" sz="2800" spc="-1" strike="noStrike">
                <a:solidFill>
                  <a:srgbClr val="000000"/>
                </a:solidFill>
                <a:latin typeface="Century Schoolbook"/>
              </a:rPr>
              <a:t>- Inflamation of the pancrease, as may occur in association with alcohol or chronic gall stones is called pancreatitis. In a more severe condition called acutepancreatitis, which is associated with heavy alcohol intake or billiary tract obstruction.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Steatorrhea</a:t>
            </a:r>
            <a:r>
              <a:rPr b="0" lang="en-US" sz="2800" spc="-1" strike="noStrike">
                <a:solidFill>
                  <a:srgbClr val="000000"/>
                </a:solidFill>
                <a:latin typeface="Century Schoolbook"/>
              </a:rPr>
              <a:t>:- This is the condition in which large quantity of undigested fat is excreated in the feaces. This is occur due to pancreatic lypase. This is the major lypolytic enzyme so most of the fat substances are digested only by it and its deffeciency leads to the Steatorrhe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txBox="1"/>
          <p:nvPr/>
        </p:nvSpPr>
        <p:spPr>
          <a:xfrm>
            <a:off x="0" y="0"/>
            <a:ext cx="9144000" cy="6858000"/>
          </a:xfrm>
          <a:prstGeom prst="rect">
            <a:avLst/>
          </a:prstGeom>
          <a:noFill/>
          <a:ln w="0">
            <a:noFill/>
          </a:ln>
        </p:spPr>
        <p:txBody>
          <a:bodyPr anchor="t">
            <a:normAutofit/>
          </a:bodyPr>
          <a:p>
            <a:pPr marL="365040" indent="-25560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Stomach</a:t>
            </a:r>
            <a:endParaRPr b="0" lang="en-US" sz="26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Small Intestine</a:t>
            </a:r>
            <a:endParaRPr b="0" lang="en-US" sz="26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And Large Intestine</a:t>
            </a:r>
            <a:endParaRPr b="0" lang="en-US" sz="26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The length of GI tract taken from a cadaver is about 9m (30 Ft). In a living person, it is much shorter because the muscles along the walls of G.I. tract organs are in a state of tonus (sustained contraction).</a:t>
            </a:r>
            <a:endParaRPr b="0" lang="en-US" sz="26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The accessony digestive organs are as follows:-</a:t>
            </a:r>
            <a:endParaRPr b="0" lang="en-US" sz="26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Teeth</a:t>
            </a:r>
            <a:endParaRPr b="0" lang="en-US" sz="26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Tongue</a:t>
            </a:r>
            <a:endParaRPr b="0" lang="en-US" sz="26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Salivary glands</a:t>
            </a:r>
            <a:endParaRPr b="0" lang="en-US" sz="26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Liver</a:t>
            </a:r>
            <a:endParaRPr b="0" lang="en-US" sz="26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Gall bladder </a:t>
            </a:r>
            <a:endParaRPr b="0" lang="en-US" sz="26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And pancreas.</a:t>
            </a:r>
            <a:endParaRPr b="0" lang="en-US" sz="26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txBox="1"/>
          <p:nvPr/>
        </p:nvSpPr>
        <p:spPr>
          <a:xfrm>
            <a:off x="0" y="0"/>
            <a:ext cx="9144000" cy="6858000"/>
          </a:xfrm>
          <a:prstGeom prst="rect">
            <a:avLst/>
          </a:prstGeom>
          <a:noFill/>
          <a:ln w="0">
            <a:noFill/>
          </a:ln>
        </p:spPr>
        <p:txBody>
          <a:bodyPr anchor="t">
            <a:norm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entury Schoolbook"/>
              </a:rPr>
              <a:t>Liver:-</a:t>
            </a:r>
            <a:endParaRPr b="0" lang="en-US" sz="30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0" lang="en-US" sz="3000" spc="-1" strike="noStrike">
                <a:solidFill>
                  <a:srgbClr val="000000"/>
                </a:solidFill>
                <a:latin typeface="Century Schoolbook"/>
              </a:rPr>
              <a:t>The liver is the heaviest gland of the body, weighing about 1.5kg in an average adult &amp; after the skin it is the second longest organ of the body. Liver is the both secretary &amp; excretory organ. It is located in the upper &amp; right side of the abdominal cavity.</a:t>
            </a:r>
            <a:endParaRPr b="0" lang="en-US" sz="30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Anatomy of liver:-</a:t>
            </a:r>
            <a:endParaRPr b="0" lang="en-US" sz="30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The liver is divided into two principles lobes :</a:t>
            </a:r>
            <a:endParaRPr b="0" lang="en-US" sz="30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0" lang="en-US" sz="3000" spc="-1" strike="noStrike">
                <a:solidFill>
                  <a:srgbClr val="000000"/>
                </a:solidFill>
                <a:latin typeface="Century Schoolbook"/>
              </a:rPr>
              <a:t>i) A large right lobe</a:t>
            </a:r>
            <a:endParaRPr b="0" lang="en-US" sz="30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0" lang="en-US" sz="3000" spc="-1" strike="noStrike">
                <a:solidFill>
                  <a:srgbClr val="000000"/>
                </a:solidFill>
                <a:latin typeface="Century Schoolbook"/>
              </a:rPr>
              <a:t>ii) Smaller left lobe by falciform ligament right lobe consist inferior quadrate lobe &amp; posterior quadate lobe.</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txBox="1"/>
          <p:nvPr/>
        </p:nvSpPr>
        <p:spPr>
          <a:xfrm>
            <a:off x="0" y="0"/>
            <a:ext cx="9144000" cy="6858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Liver made up liver cells called hepatocytes &amp; system of blood vessels, liver consists of many lobes &amp; each lobes consists of large no. of lobule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Each lobule is a honey comb like structure. The cells are arranged in different plates in one cell thick with a central vein, In between the cells are bile canaliculi.</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Each lobule surrounded by portal triads. The portal triads are consist of a hepatic artery, portal vein &amp; bile duct.</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 between the plates the sinouside or blood spaces are present. The sinouside recieves blood from portal vein &amp; hepatic artery.</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inouside are lined by endothelial cells. Few macrophage cells called kupffer’s cells are also found in between the endothelial cell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Billiary System:-</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r extra hepatic billiary apparatus.</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is formed by gall bladder &amp; the ducts called extrahepatic bile duct. The bile secreted in the hepatic cells is poured into thin canaliculus called bile canaliculus.</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Few canaliculi unite to form small ducts which finally form left &amp; right  ducts. This joins the cystic ducts from gallbladder to form common bile duct. </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t &amp; Lt hepatic ducts, common hepatic duct, cystic duct &amp; common bile duct are structrally similar. The common bile ducts units with pancreatic duct forming the common hepotopancreatic duct, which is otherwise called ampulla of vater. Ampullar of water open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txBox="1"/>
          <p:nvPr/>
        </p:nvSpPr>
        <p:spPr>
          <a:xfrm>
            <a:off x="0" y="0"/>
            <a:ext cx="9144000" cy="6858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2" name="Picture 2" descr="D:\My Pictures\Pictures\Amrita\Picture 02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o the duodenum.</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re are some smooth muscle fibres at the lower part of common bile duct which form the sphinter of oddi which takes important role in the storage of bile in gallbladder. Because of the closure of this sphinter, the bile from liver is filled in gallbladder.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Schoolbook"/>
              </a:rPr>
              <a:t>BLOOD SUPPLY</a:t>
            </a:r>
            <a:endParaRPr b="0" lang="en-US" sz="32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PATIC  ARTERY</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ORTAL VIEN</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Hepatic artery arise directly from aorta and supplies pure artrial blood. After entering the liver the hepatic art divided into many branches. Each branches  enter a portal tria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txBox="1"/>
          <p:nvPr/>
        </p:nvSpPr>
        <p:spPr>
          <a:xfrm>
            <a:off x="0" y="152280"/>
            <a:ext cx="9144000" cy="65534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ortal Vein-This is formed by superior Mesentric &amp; splenic vein. Thus the portal vein brings deoxygenated blood from stomach, intestine,spleen &amp; pancreas. Blood from hepatic artery, portal vein get mixed up in the hepatic sinouside. The hepatic cells get Oxygen &amp; nutritions from the sinousid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flow of blood from intestine to liver through portal vein is k/a entero hepatic circula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COMPOSITION OF BILE:-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ile is golden yellow or greenish color. It is poured into the digestive tract along with the pancreatic juice through the common opening ampulla of vater.</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0" y="0"/>
            <a:ext cx="9144000" cy="68580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ile consists of 99.67% of water &amp; 2.4% of solid (organic or inorganic):-</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rganic- 1) Bile salt     2) Bile pigments</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3)Cholesterol        4) lacithin </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5) Fatty acid</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organic- Na, Ca, K, Chloride &amp; Bicarbonets</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ROPERTIES:-</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olume:-800 to 1200ml/day</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ction:-Alkline</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H-:    8-8.6</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pecific gravity – 1010  to  1011</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TORAGE OF BIL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fter formation the bile enters the gallbladder where it is store from gallbladder it is released into the intestine whenever required:-</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bile stored in gall bladder is changes both quality &amp; quantity. Large amount of water &amp; electrolytes are absorbed. Thus in the gallbladder bile; there is increase in the concentration of bile salts &amp; pigments, cholesterol, fatty acids &amp; lacithin &amp; some amount of mucin is added to bile when store in gallbladder.</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0" y="0"/>
            <a:ext cx="9144000" cy="6858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lang="en-US" sz="2800" spc="-1" strike="noStrike">
                <a:solidFill>
                  <a:srgbClr val="000000"/>
                </a:solidFill>
                <a:latin typeface="Century Schoolbook"/>
              </a:rPr>
              <a:t>BILE SALT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ile Salts are the Na &amp; K salts of bile acids. The bile acids are derived from cholesterol .four Bile acids are found in human. Two of the bile acids are colic &amp; cheno deoxycolic are found in liver. From the liver they enter into the intestine &amp; these are also called primary bile acid.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 the colon due to the bacterial action, the colic acid converted into De-oxycolic acid &amp; cheno de-oxycolic converted into the Lithocolic acid &amp; these are called secondary bile acid.</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secondary bile acid conjugated with either Glycerine  &amp; Taurine forming the congugated bile acid. Glycerine is amino acid &amp; taurine is derivative of amino acid &amp; these acid are glycocolic  &amp; taurocolic acid from bile salt in combination with Na &amp; K salt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txBox="1"/>
          <p:nvPr/>
        </p:nvSpPr>
        <p:spPr>
          <a:xfrm>
            <a:off x="0" y="0"/>
            <a:ext cx="9144000" cy="723888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Bile pigment:- </a:t>
            </a:r>
            <a:endParaRPr b="0" lang="en-US" sz="32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ile pigment are the excretory products in bile, Billirubin, Billiverdin are the two bile pigments &amp; billirubin is the major bile pigment in human being. These pigment are formed during the breakdown of hemoglobin.Bile pigment are responsible for the golden yellow colour of the bile. </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    </a:t>
            </a:r>
            <a:r>
              <a:rPr b="1" i="1" lang="en-US" sz="2800" spc="-1" strike="noStrike" u="sng">
                <a:solidFill>
                  <a:srgbClr val="000000"/>
                </a:solidFill>
                <a:uFillTx/>
                <a:latin typeface="Century Schoolbook"/>
              </a:rPr>
              <a:t>FUNCTION OF BILE:- </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GESTIVE FUNCTION:- As the lipids are insoluble in water, various lipolytic eneymes can’t digest the lipids. Lipids are insoluble in water because of surface tension. Due to detergent action the bile salts reduce the surface tension of the lipids &amp; the lipids became soluble. This action of bile salts on the lipid substances is called the emulsification of lipid.</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600" spc="-1" strike="noStrike">
                <a:solidFill>
                  <a:srgbClr val="000000"/>
                </a:solidFill>
                <a:latin typeface="Century Schoolbook"/>
              </a:rPr>
              <a:t>Teeth aid in physical breakdown of food and the tongue  assist in chewing and swallowing. The other accessory digestive organs hour however never come into direct contact with food. They produce on store secretions that flow into the GI tract through ducts.: the secretion aid in the chemical breakdown of food .</a:t>
            </a:r>
            <a:endParaRPr b="0" lang="en-US" sz="26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The GI tract contains and processes food from the time it is eaten until it is digested and absorbed on eliminated. In some parts of the GI tract muscular contraction in the wall physically break down the food  by churning it. The contractions also help to dissolve food by mixing them with fluids secreted into the tract. Enzymes secreted by accessory structures and cells that line the tract break down the food chemically. Wave line contractions of the smooth muscle in the wall of the smooth muscle in the wall of the GI tract propel the food along the tract from the esophagus to the anus.</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2)Absorptive function</a:t>
            </a:r>
            <a:r>
              <a:rPr b="0" lang="en-US" sz="2800" spc="-1" strike="noStrike">
                <a:solidFill>
                  <a:srgbClr val="000000"/>
                </a:solidFill>
                <a:latin typeface="Century Schoolbook"/>
              </a:rPr>
              <a:t>:- When the bile salts combine with lipids, micelles are formed. The lipids of the micelles become water soluble &amp; are easily absorbed. This action of bile salts called Hydrotropic effect. </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3) Excretory function:- </a:t>
            </a:r>
            <a:r>
              <a:rPr b="0" lang="en-US" sz="2800" spc="-1" strike="noStrike">
                <a:solidFill>
                  <a:srgbClr val="000000"/>
                </a:solidFill>
                <a:latin typeface="Century Schoolbook"/>
              </a:rPr>
              <a:t>Bile pigments are the major excretory products of the bile. The other excreted are:-</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avy metals like copper &amp; fe</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ome bacteria like Typhoid bacteria</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holesterol</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ecithin </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lkline phasphatase</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txBox="1"/>
          <p:nvPr/>
        </p:nvSpPr>
        <p:spPr>
          <a:xfrm>
            <a:off x="0" y="0"/>
            <a:ext cx="9144000" cy="68580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4) Laxative action</a:t>
            </a:r>
            <a:r>
              <a:rPr b="0" lang="en-US" sz="2800" spc="-1" strike="noStrike">
                <a:solidFill>
                  <a:srgbClr val="000000"/>
                </a:solidFill>
                <a:latin typeface="Century Schoolbook"/>
              </a:rPr>
              <a:t>:- Bile salts can increase the movement of GI tract. Thus it renders the laxative action</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Schoolbook"/>
              </a:rPr>
              <a:t>5) </a:t>
            </a:r>
            <a:r>
              <a:rPr b="1" i="1" lang="en-US" sz="2800" spc="-1" strike="noStrike" u="sng">
                <a:solidFill>
                  <a:srgbClr val="000000"/>
                </a:solidFill>
                <a:uFillTx/>
                <a:latin typeface="Century Schoolbook"/>
              </a:rPr>
              <a:t>Maintaince of PH in GI Tract</a:t>
            </a:r>
            <a:r>
              <a:rPr b="1" i="1" lang="en-US" sz="2400" spc="-1" strike="noStrike">
                <a:solidFill>
                  <a:srgbClr val="000000"/>
                </a:solidFill>
                <a:latin typeface="Century Schoolbook"/>
              </a:rPr>
              <a:t>:- </a:t>
            </a:r>
            <a:r>
              <a:rPr b="0" lang="en-US" sz="2800" spc="-1" strike="noStrike">
                <a:solidFill>
                  <a:srgbClr val="000000"/>
                </a:solidFill>
                <a:latin typeface="Century Schoolbook"/>
              </a:rPr>
              <a:t>As bile is highly   alkine, it nutralize the acid chyme, entering intestine from stomach. Thus, an optimum PH is maintained for the actions of digestive enzymes</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6) Prevention of gallstone formation:- </a:t>
            </a:r>
            <a:r>
              <a:rPr b="0" lang="en-US" sz="2800" spc="-1" strike="noStrike">
                <a:solidFill>
                  <a:srgbClr val="000000"/>
                </a:solidFill>
                <a:latin typeface="Century Schoolbook"/>
              </a:rPr>
              <a:t>Bile salts keep the cholesterol &amp; lecithin in solution. In the absence of bile salts, cholestrol percipitates along with  lecithin &amp; forms gallstone.</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7) Lubrication function:- </a:t>
            </a:r>
            <a:r>
              <a:rPr b="0" lang="en-US" sz="2800" spc="-1" strike="noStrike">
                <a:solidFill>
                  <a:srgbClr val="000000"/>
                </a:solidFill>
                <a:latin typeface="Century Schoolbook"/>
              </a:rPr>
              <a:t>The mucin in bile salts acts as a lubricant for the chyme in intestin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Function of Liver</a:t>
            </a:r>
            <a:r>
              <a:rPr b="1" i="1" lang="en-US" sz="2800" spc="-1" strike="noStrike">
                <a:solidFill>
                  <a:srgbClr val="000000"/>
                </a:solidFill>
                <a:latin typeface="Century Schoolbook"/>
              </a:rPr>
              <a:t>:-</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1) </a:t>
            </a:r>
            <a:r>
              <a:rPr b="1" lang="en-US" sz="2800" spc="-1" strike="noStrike" u="sng">
                <a:solidFill>
                  <a:srgbClr val="000000"/>
                </a:solidFill>
                <a:uFillTx/>
                <a:latin typeface="Century Schoolbook"/>
              </a:rPr>
              <a:t>Storage function</a:t>
            </a:r>
            <a:r>
              <a:rPr b="0" lang="en-US" sz="2800" spc="-1" strike="noStrike">
                <a:solidFill>
                  <a:srgbClr val="000000"/>
                </a:solidFill>
                <a:latin typeface="Century Schoolbook"/>
              </a:rPr>
              <a:t>:-Many substances are stored in liver viz. glycogen, amino acids, iron, folic acid &amp; vitamin A, B12 &amp; D.</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a:t>
            </a:r>
            <a:r>
              <a:rPr b="1" lang="en-US" sz="2800" spc="-1" strike="noStrike" u="sng">
                <a:solidFill>
                  <a:srgbClr val="000000"/>
                </a:solidFill>
                <a:uFillTx/>
                <a:latin typeface="Century Schoolbook"/>
              </a:rPr>
              <a:t>Synthetic function</a:t>
            </a:r>
            <a:r>
              <a:rPr b="0" lang="en-US" sz="2800" spc="-1" strike="noStrike">
                <a:solidFill>
                  <a:srgbClr val="000000"/>
                </a:solidFill>
                <a:latin typeface="Century Schoolbook"/>
              </a:rPr>
              <a:t>:- Plasma proteins, blood group substances, clotting factor and heparin are synthesized in liver.</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a:t>
            </a:r>
            <a:r>
              <a:rPr b="1" lang="en-US" sz="2800" spc="-1" strike="noStrike" u="sng">
                <a:solidFill>
                  <a:srgbClr val="000000"/>
                </a:solidFill>
                <a:uFillTx/>
                <a:latin typeface="Century Schoolbook"/>
              </a:rPr>
              <a:t>Secretion of Bile:- </a:t>
            </a:r>
            <a:r>
              <a:rPr b="0" lang="en-US" sz="2800" spc="-1" strike="noStrike">
                <a:solidFill>
                  <a:srgbClr val="000000"/>
                </a:solidFill>
                <a:latin typeface="Century Schoolbook"/>
              </a:rPr>
              <a:t>Liver secretes bile which contains bile salts, bile pigment, cholesterol, fatty acid &amp; lecithin.</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functions of bile are mainly due to the bile salts. The bile salts are required for digestion &amp; absorption of fat in the intestin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txBox="1"/>
          <p:nvPr/>
        </p:nvSpPr>
        <p:spPr>
          <a:xfrm>
            <a:off x="0" y="0"/>
            <a:ext cx="9144000" cy="685800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4) </a:t>
            </a:r>
            <a:r>
              <a:rPr b="1" lang="en-US" sz="2800" spc="-1" strike="noStrike" u="sng">
                <a:solidFill>
                  <a:srgbClr val="000000"/>
                </a:solidFill>
                <a:uFillTx/>
                <a:latin typeface="Century Schoolbook"/>
              </a:rPr>
              <a:t>Metabolic function</a:t>
            </a:r>
            <a:r>
              <a:rPr b="0" lang="en-US" sz="2800" spc="-1" strike="noStrike">
                <a:solidFill>
                  <a:srgbClr val="000000"/>
                </a:solidFill>
                <a:latin typeface="Century Schoolbook"/>
              </a:rPr>
              <a:t>:- Liver is the organ where max. metabolic action are carried out like carbohydrates, protein, lipids, vitamins &amp; many of harmones.</a:t>
            </a:r>
            <a:endParaRPr b="0" lang="en-US" sz="28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5) </a:t>
            </a:r>
            <a:r>
              <a:rPr b="1" lang="en-US" sz="2800" spc="-1" strike="noStrike" u="sng">
                <a:solidFill>
                  <a:srgbClr val="000000"/>
                </a:solidFill>
                <a:uFillTx/>
                <a:latin typeface="Century Schoolbook"/>
              </a:rPr>
              <a:t>Excretory function</a:t>
            </a:r>
            <a:r>
              <a:rPr b="0" lang="en-US" sz="2800" spc="-1" strike="noStrike">
                <a:solidFill>
                  <a:srgbClr val="000000"/>
                </a:solidFill>
                <a:latin typeface="Century Schoolbook"/>
              </a:rPr>
              <a:t>:- Liver excretes cholestrol, bile pigments, heavy metals bacteria like thyphoid &amp; virus.</a:t>
            </a:r>
            <a:endParaRPr b="0" lang="en-US" sz="28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6) </a:t>
            </a:r>
            <a:r>
              <a:rPr b="1" lang="en-US" sz="2800" spc="-1" strike="noStrike" u="sng">
                <a:solidFill>
                  <a:srgbClr val="000000"/>
                </a:solidFill>
                <a:uFillTx/>
                <a:latin typeface="Century Schoolbook"/>
              </a:rPr>
              <a:t>Heat production</a:t>
            </a:r>
            <a:r>
              <a:rPr b="0" lang="en-US" sz="2800" spc="-1" strike="noStrike">
                <a:solidFill>
                  <a:srgbClr val="000000"/>
                </a:solidFill>
                <a:latin typeface="Century Schoolbook"/>
              </a:rPr>
              <a:t>:- Due to the metabolic action, heat is produced is liver. Liver is the organ where heat produce is max.</a:t>
            </a:r>
            <a:endParaRPr b="0" lang="en-US" sz="28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7) </a:t>
            </a:r>
            <a:r>
              <a:rPr b="1" lang="en-US" sz="2800" spc="-1" strike="noStrike" u="sng">
                <a:solidFill>
                  <a:srgbClr val="000000"/>
                </a:solidFill>
                <a:uFillTx/>
                <a:latin typeface="Century Schoolbook"/>
              </a:rPr>
              <a:t>Hemopoietic function</a:t>
            </a:r>
            <a:r>
              <a:rPr b="0" lang="en-US" sz="2800" spc="-1" strike="noStrike">
                <a:solidFill>
                  <a:srgbClr val="000000"/>
                </a:solidFill>
                <a:latin typeface="Century Schoolbook"/>
              </a:rPr>
              <a:t>:- In foetus the blood cells are produced in lever. </a:t>
            </a:r>
            <a:endParaRPr b="0" lang="en-US" sz="28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8) </a:t>
            </a:r>
            <a:r>
              <a:rPr b="1" lang="en-US" sz="2800" spc="-1" strike="noStrike" u="sng">
                <a:solidFill>
                  <a:srgbClr val="000000"/>
                </a:solidFill>
                <a:uFillTx/>
                <a:latin typeface="Century Schoolbook"/>
              </a:rPr>
              <a:t>Defensive &amp; detoxification</a:t>
            </a:r>
            <a:r>
              <a:rPr b="0" lang="en-US" sz="2800" spc="-1" strike="noStrike">
                <a:solidFill>
                  <a:srgbClr val="000000"/>
                </a:solidFill>
                <a:latin typeface="Century Schoolbook"/>
              </a:rPr>
              <a:t>:- The kupffer’s cells of the liver play important role in the defense of the body. Liver is also involved in the detoxification of the foreign bodi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foreign body like bacteria are swallowed &amp; digested by reticuloendothelial cells (k.c) by means o phagocytosi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iver cells are involved in removal of toxic property of various harmful substances. The removal of toxic property of the harmful substances. The removal of toxic property of the harmful agent is called  detexoyfica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i="1" lang="en-US" sz="2800" spc="-1" strike="noStrike">
                <a:solidFill>
                  <a:srgbClr val="000000"/>
                </a:solidFill>
                <a:latin typeface="Century Schoolbook"/>
              </a:rPr>
              <a:t>GALLBLADDER:-</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is a pear shaped sac that is located in a depression of the posterior surface of the liver. It is 7-10cm long.</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bile secreted from liver is stored in gallbladder. The capacity of gallbladder is 50ml.</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txBox="1"/>
          <p:nvPr/>
        </p:nvSpPr>
        <p:spPr>
          <a:xfrm>
            <a:off x="0" y="0"/>
            <a:ext cx="9144000" cy="685800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FUNCTION OF GALLBLADER</a:t>
            </a:r>
            <a:r>
              <a:rPr b="1" lang="en-US" sz="2800" spc="-1" strike="noStrike">
                <a:solidFill>
                  <a:srgbClr val="000000"/>
                </a:solidFill>
                <a:latin typeface="Century Schoolbook"/>
              </a:rPr>
              <a:t>:-</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The major function of gallbladder are the storage &amp; concentration of bile. Te other function is as follows:- </a:t>
            </a:r>
            <a:endParaRPr b="0" lang="en-US" sz="26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1) </a:t>
            </a:r>
            <a:r>
              <a:rPr b="1" lang="en-US" sz="2600" spc="-1" strike="noStrike">
                <a:solidFill>
                  <a:srgbClr val="000000"/>
                </a:solidFill>
                <a:latin typeface="Century Schoolbook"/>
              </a:rPr>
              <a:t>Storage of bile</a:t>
            </a:r>
            <a:r>
              <a:rPr b="0" lang="en-US" sz="2600" spc="-1" strike="noStrike">
                <a:solidFill>
                  <a:srgbClr val="000000"/>
                </a:solidFill>
                <a:latin typeface="Century Schoolbook"/>
              </a:rPr>
              <a:t>:- Bile is continuously secreted</a:t>
            </a:r>
            <a:endParaRPr b="0" lang="en-US" sz="26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from liver, the bile enters the gallbladder through cystic duct &amp; it is stored there, whenever it is required, the bile is released into the intestine from the gallbladder.  </a:t>
            </a:r>
            <a:endParaRPr b="0" lang="en-US" sz="26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2) </a:t>
            </a:r>
            <a:r>
              <a:rPr b="1" lang="en-US" sz="2600" spc="-1" strike="noStrike">
                <a:solidFill>
                  <a:srgbClr val="000000"/>
                </a:solidFill>
                <a:latin typeface="Century Schoolbook"/>
              </a:rPr>
              <a:t>Concentration of bile </a:t>
            </a:r>
            <a:r>
              <a:rPr b="0" lang="en-US" sz="2600" spc="-1" strike="noStrike">
                <a:solidFill>
                  <a:srgbClr val="000000"/>
                </a:solidFill>
                <a:latin typeface="Century Schoolbook"/>
              </a:rPr>
              <a:t>:- When bile is stored in gallbladder, it is also concentrated. The muscosa of gallbladder rapidly reabsorbs water &amp; electrolytes except ca &amp; k. But the bile salts, &amp; pigment, cholestral &amp;lecithin are not reabsorbed.</a:t>
            </a:r>
            <a:endParaRPr b="0" lang="en-US" sz="26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3) </a:t>
            </a:r>
            <a:r>
              <a:rPr b="1" lang="en-US" sz="2600" spc="-1" strike="noStrike">
                <a:solidFill>
                  <a:srgbClr val="000000"/>
                </a:solidFill>
                <a:latin typeface="Century Schoolbook"/>
              </a:rPr>
              <a:t>Alteration of PH of bile:</a:t>
            </a:r>
            <a:r>
              <a:rPr b="0" lang="en-US" sz="2600" spc="-1" strike="noStrike">
                <a:solidFill>
                  <a:srgbClr val="000000"/>
                </a:solidFill>
                <a:latin typeface="Century Schoolbook"/>
              </a:rPr>
              <a:t>-  Bile being stored in gallbladder the PH of bile is reduced from 8-8.6 to 7-7.</a:t>
            </a:r>
            <a:endParaRPr b="0" lang="en-US" sz="26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4) </a:t>
            </a:r>
            <a:r>
              <a:rPr b="1" lang="en-US" sz="2600" spc="-1" strike="noStrike">
                <a:solidFill>
                  <a:srgbClr val="000000"/>
                </a:solidFill>
                <a:latin typeface="Century Schoolbook"/>
              </a:rPr>
              <a:t>Secrection of mucin</a:t>
            </a:r>
            <a:r>
              <a:rPr b="0" lang="en-US" sz="2600" spc="-1" strike="noStrike">
                <a:solidFill>
                  <a:srgbClr val="000000"/>
                </a:solidFill>
                <a:latin typeface="Century Schoolbook"/>
              </a:rPr>
              <a:t>:- Gallbladder secretes mucin which act as a lubricants in a intestine from a chyme.  </a:t>
            </a:r>
            <a:endParaRPr b="0" lang="en-US" sz="26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0" y="0"/>
            <a:ext cx="9144000" cy="6858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5) Maintaince of pressure in billiary secretion:- </a:t>
            </a:r>
            <a:r>
              <a:rPr b="0" lang="en-US" sz="2800" spc="-1" strike="noStrike">
                <a:solidFill>
                  <a:srgbClr val="000000"/>
                </a:solidFill>
                <a:latin typeface="Century Schoolbook"/>
              </a:rPr>
              <a:t>Due to concentrating capacity, gallbladder maintains the pressure in billiary secretion. It is essential for the release of bile in the small intestine.</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REGULATION OF BILE:-</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fter they have served their function as emulsifying agent most bile saltare reaborbed by active transport in the illium of small intestine &amp; enter portal blood flowing towards the liver.</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lthough hepatocytes continously release bile. They increase production &amp; secretion when the portal blood contains more bile acids. Thus as digestion &amp; absorption continue in the small intestine.</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etween meals aftermost absorption ha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occured bile flow into gallbladder for storage because the sphinter oddi closes of the entrance to the duodenum.</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fter a meal several neural and harmonal stimuli promote production &amp; release of bile:-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arasympathetic impulses propogate along axon of the vagus nerve &amp; stimulate the liver to increase bile produc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atty &amp; amino acids in the chyme entering the ducdenum stimulate. Some deodenal entero endorine cell to secrete the hormone cck into the bloo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0" y="0"/>
            <a:ext cx="9144000" cy="6858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cidic chyme entering duodenum stimulate other cells to secrete the other harmone secret into the blood.</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Cck causes contraction of the wall of the gallbladder which squeezes stored bile out of the gallbladder into the cistic duct through the common bile duct. Cck also causes relaxtion of the sphinter of hepatopancreatic ampulla which allows bile to flow into the duedenum.</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entury Schoolbook"/>
              </a:rPr>
              <a:t>APPLIED PHYSIO OF LIVER &amp; GALLBLADDER</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 JOUINDICE:- This is the yellow pigmentation of the skin, mucous membrane in the excess deeper of billirubin. The normal serum billirubin level is 0.5 to 1.5mg% when this exceeds to 2 mg% jaundice occur. There are two types of jaundice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txBox="1"/>
          <p:nvPr/>
        </p:nvSpPr>
        <p:spPr>
          <a:xfrm>
            <a:off x="0" y="0"/>
            <a:ext cx="9144000" cy="6858000"/>
          </a:xfrm>
          <a:prstGeom prst="rect">
            <a:avLst/>
          </a:prstGeom>
          <a:noFill/>
          <a:ln w="0">
            <a:noFill/>
          </a:ln>
        </p:spPr>
        <p:txBody>
          <a:bodyPr anchor="t">
            <a:normAutofit/>
          </a:bodyPr>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aemolytic Jouindice</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bstructive Jouindice</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Haemolytic J</a:t>
            </a:r>
            <a:r>
              <a:rPr b="0" lang="en-US" sz="2800" spc="-1" strike="noStrike">
                <a:solidFill>
                  <a:srgbClr val="000000"/>
                </a:solidFill>
                <a:latin typeface="Century Schoolbook"/>
              </a:rPr>
              <a:t>:- It is due to there is excessive distruction of R.B.C &amp; thus bilirubin level in blood is increased &amp; the liver cells can’t excrete that much bilirubin rapidly. So, there is increased level of free bilirubin in blood. </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Obstructive J:- </a:t>
            </a:r>
            <a:r>
              <a:rPr b="0" lang="en-US" sz="2800" spc="-1" strike="noStrike">
                <a:solidFill>
                  <a:srgbClr val="000000"/>
                </a:solidFill>
                <a:latin typeface="Century Schoolbook"/>
              </a:rPr>
              <a:t>In this the excretion of bile pigment disturb. There are two cause- </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     Obstruction of bileduct:- This is due to the obstruction of bileduct  called posterior hepatic jouindice. </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Overall, the digestive system Perform six basic process:-</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Ingestion:- </a:t>
            </a:r>
            <a:r>
              <a:rPr b="0" lang="en-US" sz="2800" spc="-1" strike="noStrike">
                <a:solidFill>
                  <a:srgbClr val="000000"/>
                </a:solidFill>
                <a:latin typeface="Century Schoolbook"/>
              </a:rPr>
              <a:t>This process involves taking foods and liquids into the mouth i.e eating.</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Secretion:- </a:t>
            </a:r>
            <a:r>
              <a:rPr b="0" lang="en-US" sz="2800" spc="-1" strike="noStrike">
                <a:solidFill>
                  <a:srgbClr val="000000"/>
                </a:solidFill>
                <a:latin typeface="Century Schoolbook"/>
              </a:rPr>
              <a:t>Each day, cells within the walls of the GI tract and accessory digestive organs secret a total of about 7 liters of water, acid, buffers and enzymes into the lumen of the tract.</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Mixing and Propulsion:- Altering contraction and wall relaxation of smooth muscle in the walls of the GI tract mix food and secreations and propel them towards the anus. This capability of the GI tract to mix and move material along its length is termed motility.</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bile can’t poured in small intestine &amp; bile salt &amp; pigments enter in the circula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 Due to damage of liver cell or hepatic Jouindice:- Here bilirubin is conjugated but can’t be excreted so it returns to the blood. Thus in obstructive jouindice the plasma contain more of conjugated bilirubin. The damage of liver cell can occur by toxic substance or by infec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Schoolbook"/>
              </a:rPr>
              <a:t>GALL STON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t bile contains either insufficient bile salts or lecithin or excessive cholestral.The cholestral may crystallize to form gall stones. As they grow in size and number gallstone may cause minimum intermittent or complete obstruction to the flow of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txBox="1"/>
          <p:nvPr/>
        </p:nvSpPr>
        <p:spPr>
          <a:xfrm>
            <a:off x="-360" y="0"/>
            <a:ext cx="899172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ile from gallbladder into the duodenum treatment consist of using gallstone dissolving drugs lithotrispy or surgery.For people with recurrent gallstone or for whom drugs or lithotripsy is not indicated, cholecystectomy removal of gallbladder and its contents is necessary.</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CIRRHOSIS OF LIVER</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inflammation and damage of parenchyma of liver is known as cirrhosis of liver. This may result in degeneration of hepatic cells and dysfunction of liver.</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fection</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tention of bile in lever due to obstruction of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of ducts of billiary system.</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i) Enlargement of liver due to intoxification</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v) Inflammation around liver perihepatitis</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 Infiltration of fat in hepatic cell.</a:t>
            </a:r>
            <a:endParaRPr b="0" lang="en-US" sz="2800" spc="-1" strike="noStrike">
              <a:solidFill>
                <a:srgbClr val="000000"/>
              </a:solidFill>
              <a:latin typeface="Century Schoolbook"/>
            </a:endParaRPr>
          </a:p>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MALL INTESTINE </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INTRODUCTION:-</a:t>
            </a:r>
            <a:r>
              <a:rPr b="0" lang="en-US" sz="2800" spc="-1" strike="noStrike">
                <a:solidFill>
                  <a:srgbClr val="000000"/>
                </a:solidFill>
                <a:latin typeface="Century Schoolbook"/>
              </a:rPr>
              <a:t> The small intestine begins from the pyloric end of stomach and ends in the ileocaecal opening. The small intestine is divided into 3 parts:-</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uodenum (first 30cm)</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jejunum</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ileu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ost digestion &amp; absorption of nutrients occur in the small intestine. Its structure is specially adopted for this func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t’s length provides a large surface area for digestion &amp; absorption &amp; that area is further increased by circular folds villi &amp; microvilli</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diameter  of small intestine is 2.5cm (1inch) &amp; length is about 3m (10ft) in living pers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NATOMY OF SMALL INTESTIN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small intestine divided into 3 regions:- The duodenum shortest region is retropecitoneel. It starts at the pyloic sphinter of the stomach &amp; extends about 25cm. (10inch) until i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0" y="0"/>
            <a:ext cx="9144000" cy="6858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94" name="Picture 2" descr="D:\My Pictures\Pictures\Amrita\Picture 02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meges with jejunum. The jejunum is about 1m (3ft) long &amp; extend to the ileum. The longest of small intestine is the ilium. It is 2m. Or (6ft)long &amp; joins the large intestine at the ileocaccal sphicter</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rojection called cicular folder 10mm peema nent ridges in the mucosa. The circular fold begins neer the peoximal portion of the dusdenum &amp; and at about the mid poetion of the ileum. They enhance absorption by increasing surface area.</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ISTORY:- The neall of the small intestine is composed of same four coats that make up most of the GI tract special feature of both the mucosa &amp; submucosa facilitate the process of digestion &amp;</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bsorption. The mucova forms a series of finger like villi,projections thet are 0.5 to 1mm long. The large no. of villi ^ se the surface area of the epithelium available for absorption &amp; digestion each villus has core of lamina propria embedded in this connective tissue are an arteriola a vanule, a blood capillary Network and a lecteal, which is a lymphatic</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apilary.</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epithelium of the muccova consisits of simple columnar epithelium that contain absortive cells &amp; penatch cells.The apical ( free ) membrance of absorptive cells futures microvillieach microvillus is a  1 um long cylinducal member conue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rojection that contains a bundle of 20-30 actine filaments. The microvilli are too small to be seen individually instead they from a structure called the brush border extending into the lumen of the small intestine. There are 200 microvilli per square mm of small intestine  because they increase the surface area of the plasma membrane larher amount of digested nutrients can diffuse into absorption cell in a given period. The brush border also contains several brush border enzymes that have digestive function tooblet cells secrete mucous. The mucosa contains many deep crevices lined with glandular epithelium cells living the crenices form the </a:t>
            </a:r>
            <a:r>
              <a:rPr b="0" lang="en-US" sz="2800" spc="-1" strike="noStrike" u="sng">
                <a:solidFill>
                  <a:srgbClr val="000000"/>
                </a:solidFill>
                <a:uFillTx/>
                <a:latin typeface="Century Schoolbook"/>
              </a:rPr>
              <a:t>intestinal glands </a:t>
            </a:r>
            <a:r>
              <a:rPr b="0" lang="en-US" sz="2800" spc="-1" strike="noStrike">
                <a:solidFill>
                  <a:srgbClr val="000000"/>
                </a:solidFill>
                <a:latin typeface="Century Schoolbook"/>
              </a:rPr>
              <a:t>(crypts of lieberkuhn) &amp; secut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testinal juice. Many of the epithelial cells in the mucosa are “goblet cells” which secutes mucous Penath cells found in the deepest part of the Intestinal gland secutes Lysozyme &amp;are capable of phagocytosis. Three types of Enteroendocrine cells also in the deepest part of the intestinal gland secute hormones secutin, cholycystokinin &amp;glucose dependent Insulinotropic peptide. Group of Lymphatic nodules called as Peyer’s patches are also present in the ileum. The submucosa of Duodenum contains Brunner’s gland. Which secute an alkaline mucous that helps Neutralize gastric acid in the chyme. The musculasis of the small Intestine consists of two layers of smooth muscles. The outer</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inner layer contains longitudinal fibre or inner thicker layer contain cricular fibr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PERTIES &amp; COMPOSITION OF SUCCUS ENTERICU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cution from small intestine is called Succus Entericu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PERTIES:- (i) Volume --- 1800ml/day</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ii) Reaction --- Alkalin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PH --- 8.3</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MPOSITION:- Succus entericus contains neater &amp;organic &amp; inorganic substanc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4) Digestion:- Mechanical and chemical processes break down ingested food into small molecules. In mechanical digestion the teeth cut and grind food before it is swallowed and then smooth muscles of the stomach and small intestine churn the food. As a result, food molecules become dissolved and thoroughly mixed with digestive enzyme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 chemical digestion the large carbohydrate lipid, protein and nucleic acid molecules in food are split into smaller molecules by hydrolysis. Digestive enzymes produced by the salivary glands , tongue, stomach, pancrease and small intestine catalyze these catabolic reactio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RGANIC SUBSTANCE-(i) Enzymes</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ii) Intrinsic factor</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iii) Mucos</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nzymes – (a) Proteolytic Enzymes – Peptidase,</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minopeptidase, dipeptidase</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amp; tripeptidase.</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 Amylolytic Enzymes – Sucrase,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maltase, isomaltase &amp; lactase.</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c) Lipolytic   -  Lipase and phosphate.</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other enzymes:- Enterokinase .</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ORGANIC SUBSTANCE:- Na, K, Ca, chloride phospahte, sulphate and bycarbonate.</a:t>
            </a:r>
            <a:r>
              <a:rPr b="0" lang="en-US" sz="2800" spc="-1" strike="noStrike">
                <a:solidFill>
                  <a:srgbClr val="000000"/>
                </a:solidFill>
                <a:latin typeface="Century Schoolbook"/>
              </a:rPr>
              <a:t>	</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UNCTION OF SUCCESS ENTERICUS:-</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Digestive function:-The enzymes are of success entericas at on the partially digested food and convert then into finally digestive products. The enzymes are produced and released into success entericas by anteosites of villi.</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tolytic enzymes:- The protolytic enzymes of success entricus are the peptides. The peptides convert peptides into amino acid.</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mylolytic Enzymes:- The carbohydrates splitting enzymes are success entricus are lactase success and maltose which convert the dysacarites (Lactose, sucrose, maltose) Into two molecule of monosacharydes .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a:t>
            </a:r>
            <a:r>
              <a:rPr b="1" lang="en-US" sz="2800" spc="-1" strike="noStrike" u="sng">
                <a:solidFill>
                  <a:srgbClr val="000000"/>
                </a:solidFill>
                <a:uFillTx/>
                <a:latin typeface="Century Schoolbook"/>
              </a:rPr>
              <a:t>Lipolytic enzymes</a:t>
            </a:r>
            <a:r>
              <a:rPr b="0" lang="en-US" sz="2800" spc="-1" strike="noStrike">
                <a:solidFill>
                  <a:srgbClr val="000000"/>
                </a:solidFill>
                <a:latin typeface="Century Schoolbook"/>
              </a:rPr>
              <a:t>:- Intestinal lypase acts on triglycerides and convert them into the fatty acid.</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 </a:t>
            </a:r>
            <a:r>
              <a:rPr b="1" lang="en-US" sz="2800" spc="-1" strike="noStrike" u="sng">
                <a:solidFill>
                  <a:srgbClr val="000000"/>
                </a:solidFill>
                <a:uFillTx/>
                <a:latin typeface="Century Schoolbook"/>
              </a:rPr>
              <a:t>Protective function</a:t>
            </a:r>
            <a:r>
              <a:rPr b="0" lang="en-US" sz="2800" spc="-1" strike="noStrike">
                <a:solidFill>
                  <a:srgbClr val="000000"/>
                </a:solidFill>
                <a:latin typeface="Century Schoolbook"/>
              </a:rPr>
              <a:t>:- the mucus present in the success entericus protects the intestine from stomach and thereby prevents the intestinal ulcer.</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i) </a:t>
            </a:r>
            <a:r>
              <a:rPr b="1" lang="en-US" sz="2800" spc="-1" strike="noStrike" u="sng">
                <a:solidFill>
                  <a:srgbClr val="000000"/>
                </a:solidFill>
                <a:uFillTx/>
                <a:latin typeface="Century Schoolbook"/>
              </a:rPr>
              <a:t>Activator Function</a:t>
            </a:r>
            <a:r>
              <a:rPr b="0" lang="en-US" sz="2800" spc="-1" strike="noStrike">
                <a:solidFill>
                  <a:srgbClr val="000000"/>
                </a:solidFill>
                <a:latin typeface="Century Schoolbook"/>
              </a:rPr>
              <a:t>:- The enterokinase present in intestinal juice activates trypsinogen into trypsi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v) </a:t>
            </a:r>
            <a:r>
              <a:rPr b="1" lang="en-US" sz="2800" spc="-1" strike="noStrike" u="sng">
                <a:solidFill>
                  <a:srgbClr val="000000"/>
                </a:solidFill>
                <a:uFillTx/>
                <a:latin typeface="Century Schoolbook"/>
              </a:rPr>
              <a:t>Haemopoietic function</a:t>
            </a:r>
            <a:r>
              <a:rPr b="0" lang="en-US" sz="2800" spc="-1" strike="noStrike">
                <a:solidFill>
                  <a:srgbClr val="000000"/>
                </a:solidFill>
                <a:latin typeface="Century Schoolbook"/>
              </a:rPr>
              <a:t>:- The intrinsic factor present in the prastine plays an important role in erytheopoiesis. This is necessary for the absortion of the extrinsic factor from GIT tract into the blood.</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 </a:t>
            </a:r>
            <a:r>
              <a:rPr b="1" lang="en-US" sz="2800" spc="-1" strike="noStrike" u="sng">
                <a:solidFill>
                  <a:srgbClr val="000000"/>
                </a:solidFill>
                <a:uFillTx/>
                <a:latin typeface="Century Schoolbook"/>
              </a:rPr>
              <a:t>Hydrolytic Process</a:t>
            </a:r>
            <a:r>
              <a:rPr b="0" lang="en-US" sz="2800" spc="-1" strike="noStrike">
                <a:solidFill>
                  <a:srgbClr val="000000"/>
                </a:solidFill>
                <a:latin typeface="Century Schoolbook"/>
              </a:rPr>
              <a:t>:- All enzymatic reaction of digestion are Hydrolytic process. Intestine juic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rovide water &amp; helps in all the enzymatic reactions of Digestion</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UNCTION OF SMALL INTESTINE</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achanical function:- The mixing movements of small intestine helps in the through mixing of chyme coming from stomach with digestive juices like, succus entrricus pancreatic juice &amp; Bilejuice.</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cutory Function:- Small Intestine secrets success enteucus entuskinese &amp; gastro Intestinal hoemone.</a:t>
            </a:r>
            <a:endParaRPr b="0" lang="en-US" sz="2800" spc="-1" strike="noStrike">
              <a:solidFill>
                <a:srgbClr val="000000"/>
              </a:solidFill>
              <a:latin typeface="Century Schoolbook"/>
            </a:endParaRPr>
          </a:p>
          <a:p>
            <a:pPr marL="365040" indent="-2556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ORMONAL FUNCTION</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GI Harmone secuted by small Intestine are secretion enterogartion,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cholycystokinin. This Hormones segntaly the secretiry activities of small Intestine &amp; pancreas. This Hoemones also control the movements of GI Tract.</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 Enterogastron:- is secuted in the muecosa of dusdenum when acid chyme enters from stomach. Entugestion inhibities gastic secution &amp; also gastic Motility.</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 Secutin:- It is produced by S-cells of mucus memb in dusdenum &amp; jjunum. It is Ist produced is an inactive foemprosecuting. The prosecuting is connected into secutin by the acidity of the chym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i) Cholycystokini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Panceszymin:- Stimulating pancreatic secetio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 Cholycystokinn:-Causing contraction of gall blladder are two different Hoemine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4) Digestive function:- Though the digestion of various food substances commences in mouth &amp; stomach. It is completely only in small Intestine. The digestive functions of small Intestine are called out by the enzymes of succus enterios secuted in small Intestin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5) HAEMOPOIETIC FUNCTION:- The intevensic factor present in the small Intestine is necessary for the absorption of VitB12 from Git into the blood.</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6) APSOPTIONE FUNCTIONS:- The presencevilli micro villi in small intestine mucosa.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txBox="1"/>
          <p:nvPr/>
        </p:nvSpPr>
        <p:spPr>
          <a:xfrm>
            <a:off x="0" y="0"/>
            <a:ext cx="9144000" cy="6858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is facilitates the absorptive function of intestine.</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digested products of food stuff’s – protien carbohydrate, fats, vitamin,s &amp; mineral &amp; and water are absorbed mostly in small intestine.</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BSORPTION OF CARBOHYDRATES:- Absorption of glucose occurs by sodium co-transport system.</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ructose ia absorbed by facilitate diffusion some fructose molecules are converted into glucose in mucosa.</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BSORPTION OF PROTEIN:- The deaminoacds are absorbed by diffusion &amp; most of L-aminoacids are transported activity by sodium co-transport system. Amino acids absorption is faster in duodenum &amp; jejenum &amp; slower in ilium.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BSORPTION OF FATS:- Monoglycerids, cholesterol &amp; fatty acids from the Micellus enter the cells of intestinal mucosa by simple diffus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Most of the fats are absorbed in upper part of small intestine. Presence of bile is essential for fat absorp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BSORPTION OE WATER &amp; MINERAL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 In small intestine Na is absorbed activity. This brings about absorption of glucose, amino acids &amp; other substances by means of Na –ca transport.</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 Water moves in or out of the intestinal Lumen till the osmotic pressure of intestinal contents become equal to that of plasma.</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i) In ilium chloride ion is actively absorbed in exchange of bicarbonate. Ca is actively absorbed. Mostly in upper part of small intestin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LARGE INTESTINE</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large intestine is the terminal position of the GI tract and is devided into four principal regions. The overall function of the large intestine are the completion of absorption, the production of certain vitamins, the formation of faces and the expulsion of faces from the body.</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Anatomy of the large Intestine:</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LI which is also known as color consist of the following parts:</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Caecum with Appenix</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scending colon</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ransverse colon</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Desending colo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 few substances in food can be absorbed without chemical digestion. These include amino acids, cholestral, glucose, vitamins, minerals and water.</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5) Absorption:- The entrance of ingested and secreted fluids, ions and the small molecules that are products of digestion into the epithelial cells lining the lumen of the GI tract is called absorption. The absorbed substances pass into blood or lymph and circulate to cells throughtout the body.</a:t>
            </a:r>
            <a:endParaRPr b="0" lang="en-US" sz="28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6) Defection:- Wastes, indigestible substances bacteria cells sloughed from the lining of the GI tract and digested materials that were not absorbed leave the body through the anus in a process called defection. The eliminated material is termed fece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5. Sigmoied colon</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6. Rectum and anul canal</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large intestine, which is about 1.5m (5ft) long and 6.5 c.m in diameter, extends from the ikum to the anus. It is attached to the posterior abdominal wall by its mesocolor, the opening from the ileum in to the large ilntentine is guarded by a fold of mucous mem called the ileo cecal sphineter which allows materials from the SI to pass into the LI caecum is blind pourch about 6 c.m. long . Attached to caecum a coiled tube about 8c.m long called the appendix. The mesentary of appendix called the mesoappendix attaches the appendix to the inferior part of the mesntery of the ileum.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               </a:t>
            </a:r>
            <a:r>
              <a:rPr b="1" lang="en-US" sz="2800" spc="-1" strike="noStrike">
                <a:solidFill>
                  <a:srgbClr val="575f6d"/>
                </a:solidFill>
                <a:latin typeface="Century Schoolbook"/>
              </a:rPr>
              <a:t>The open end of the caclum merges with a long tube called the colon, which is divided into ascending transverse, descending, and sigmoid portion.</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rectum, the last 20 c.m of the GI tract, lies anterior to the sacrum and coccyx. The terminal 2-3 c.m of the rectum is called the anal canal. The opening of the anal by an internal anal sphincter of  external and sphinter of external muscles during the elimination of faces.</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Structure of wall of LI </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wall of LI is formed by four layers of structure</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Like any other part of the gu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1.Serious layer:-  </a:t>
            </a:r>
            <a:r>
              <a:rPr b="1" lang="en-US" sz="2800" spc="-1" strike="noStrike">
                <a:solidFill>
                  <a:srgbClr val="575f6d"/>
                </a:solidFill>
                <a:latin typeface="Century Schoolbook"/>
              </a:rPr>
              <a:t>this is formed by perituneum.</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2.Muscular layer :-</a:t>
            </a:r>
            <a:r>
              <a:rPr b="1" lang="en-US" sz="2800" spc="-1" strike="noStrike">
                <a:solidFill>
                  <a:srgbClr val="575f6d"/>
                </a:solidFill>
                <a:latin typeface="Century Schoolbook"/>
              </a:rPr>
              <a:t> the smooth muscles of LI are distributed in two layers namely the outer longitudinal muscles fibres of LI are arranged in the ferm of the three long bands called tenia coli. The length o tenia coli is less compared to the length of the LI itself. Because of this the LI is made into series of pouches between the tenia coli. These pouches are called haustra.</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3.Submucus layer:-</a:t>
            </a:r>
            <a:r>
              <a:rPr b="1" lang="en-US" sz="2800" spc="-1" strike="noStrike">
                <a:solidFill>
                  <a:srgbClr val="575f6d"/>
                </a:solidFill>
                <a:latin typeface="Century Schoolbook"/>
              </a:rPr>
              <a:t> this is not well developed in LI.</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4.mucus layer:-</a:t>
            </a:r>
            <a:r>
              <a:rPr b="1" lang="en-US" sz="2800" spc="-1" strike="noStrike">
                <a:solidFill>
                  <a:srgbClr val="575f6d"/>
                </a:solidFill>
                <a:latin typeface="Century Schoolbook"/>
              </a:rPr>
              <a:t> the villi and crypt of leiberkuhn presents in mucosa of SI  are absent in the mucus membrane of LI. Only mucus secreting glands are presents in the mucosa of LI.</a:t>
            </a:r>
            <a:endParaRPr b="0" lang="en-US" sz="28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Secretion of LI:-</a:t>
            </a:r>
            <a:r>
              <a:rPr b="1" lang="en-US" sz="2800" spc="-1" strike="noStrike">
                <a:solidFill>
                  <a:srgbClr val="575f6d"/>
                </a:solidFill>
                <a:latin typeface="Century Schoolbook"/>
              </a:rPr>
              <a:t> The LI juice is a watery fluid with PH of 8.0</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subTitle"/>
          </p:nvPr>
        </p:nvSpPr>
        <p:spPr>
          <a:xfrm>
            <a:off x="0" y="-360"/>
            <a:ext cx="9144000" cy="6629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Composition of LI Secretion:-</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large intestinal juice contains 99.5% of water and 0.5% solids.</a:t>
            </a:r>
            <a:endParaRPr b="0" lang="en-US" sz="2800" spc="-1" strike="noStrike">
              <a:solidFill>
                <a:srgbClr val="000000"/>
              </a:solidFill>
              <a:latin typeface="Century Schoolbook"/>
            </a:endParaRPr>
          </a:p>
          <a:p>
            <a:pPr>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Organic Substances:-</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organic substances presents in this are albumin, globulin, mucin, urea and debris of cpithelial cells.</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Inorganic Substances:-</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inorganic substance presents in this juice are sodium, potassium, chlorine and bicarbonate the concentration of bicarbonate is high</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Function of LI Secretion:-</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Neutralization of Acids:-</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Strong acids formed by bacterial action in LI are neutralized by the alhalive nature of L intestinal juice. The alhalinity of this juice is mainly due to the presence of large quantity of bicarbonate.</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Lubrication Activity:-</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mucin presents in secretion of large intestine lubricates the mucosa of large intestine and the bowel contents, so that, the movements of bowel is bowel is facilitated.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LARGE INTESTINE</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large intestine is the terminal position of the GI tract and is devided into four principal regions. The overall function of the large intestine are the completion of absorption, the production of certain vitamins, the formation of faces and the expulsion of faces from the body.</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Anatomy of the large Intestine:</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LI which is also known as color consist of the following parts:</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Caecum with Appenix</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scending colon</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ransverse colon</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Desending colo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Picture 2" descr="\\Phoonk\D\My Pictures\Pictures\Amrita\Picture 02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5. Sigmoied colon</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6. Rectum and anul canal</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large intestine, which is about 1.5m (5ft) long and 6.5 c.m in diameter, extends from the ikum to the anus. It is attached to the posterior abdominal wall by its mesocolor, the opening from the ileum in to the large ilntentine is guarded by a fold of mucous mem called the ileo cecal sphineter which allows materials from the SI to pass into the LI caecum is blind pourch about 6 c.m. long . Attached to caecum a coiled tube about 8c.m long called the appendix. The mesentary of appendix called the mesoappendix attaches the appendix to the inferior part of the mesntery of the ileum.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               </a:t>
            </a:r>
            <a:r>
              <a:rPr b="1" lang="en-US" sz="2800" spc="-1" strike="noStrike">
                <a:solidFill>
                  <a:srgbClr val="575f6d"/>
                </a:solidFill>
                <a:latin typeface="Century Schoolbook"/>
              </a:rPr>
              <a:t>The open end of the caclum merges with a long tube called the colon, which is divided into ascending transverse, descending, and sigmoid portion.</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rectum, the last 20 c.m of the GI tract, lies anterior to the sacrum and coccyx. The terminal 2-3 c.m of the rectum is called the anal canal. The opening of the anal by an internal anal sphincter of  external and sphinter of external muscles during the elimination of faces.</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Structure of wall of LI </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wall of LI is formed by four layers of structure</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Like any other part of the gu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1.Serious layer:-  </a:t>
            </a:r>
            <a:r>
              <a:rPr b="1" lang="en-US" sz="2800" spc="-1" strike="noStrike">
                <a:solidFill>
                  <a:srgbClr val="575f6d"/>
                </a:solidFill>
                <a:latin typeface="Century Schoolbook"/>
              </a:rPr>
              <a:t>this is formed by perituneum.</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2.Muscular layer :-</a:t>
            </a:r>
            <a:r>
              <a:rPr b="1" lang="en-US" sz="2800" spc="-1" strike="noStrike">
                <a:solidFill>
                  <a:srgbClr val="575f6d"/>
                </a:solidFill>
                <a:latin typeface="Century Schoolbook"/>
              </a:rPr>
              <a:t> the smooth muscles of LI are distributed in two layers namely the outer longitudinal muscles fibres of LI are arranged in the ferm of the three long bands called tenia coli. The length o tenia coli is less compared to the length of the LI itself. Because of this the LI is made into series of pouches between the tenia coli. These pouches are called haustra.</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3.Submucus layer:-</a:t>
            </a:r>
            <a:r>
              <a:rPr b="1" lang="en-US" sz="2800" spc="-1" strike="noStrike">
                <a:solidFill>
                  <a:srgbClr val="575f6d"/>
                </a:solidFill>
                <a:latin typeface="Century Schoolbook"/>
              </a:rPr>
              <a:t> this is not well developed in LI.</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4.mucus layer:-</a:t>
            </a:r>
            <a:r>
              <a:rPr b="1" lang="en-US" sz="2800" spc="-1" strike="noStrike">
                <a:solidFill>
                  <a:srgbClr val="575f6d"/>
                </a:solidFill>
                <a:latin typeface="Century Schoolbook"/>
              </a:rPr>
              <a:t> the villi and crypt of leiberkuhn presents in mucosa of SI  are absent in the mucus membrane of LI. Only mucus secreting glands are presents in the mucosa of LI.</a:t>
            </a:r>
            <a:endParaRPr b="0" lang="en-US" sz="28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Secretion of LI:-</a:t>
            </a:r>
            <a:r>
              <a:rPr b="1" lang="en-US" sz="2800" spc="-1" strike="noStrike">
                <a:solidFill>
                  <a:srgbClr val="575f6d"/>
                </a:solidFill>
                <a:latin typeface="Century Schoolbook"/>
              </a:rPr>
              <a:t> The LI juice is a watery fluid with PH of 8.0</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Anatomical Consideration</a:t>
            </a:r>
            <a:endParaRPr b="0" lang="en-US" sz="25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The human digestive canal is a large muscular tube consist of the following parts from above downwards the mouth (guarded by lips and teeth), tongue, pharynx, esophagus , stomach, small intestine, large intestine, rectum and anal canal.</a:t>
            </a:r>
            <a:endParaRPr b="0" lang="en-US" sz="25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             </a:t>
            </a:r>
            <a:r>
              <a:rPr b="0" lang="en-US" sz="2500" spc="-1" strike="noStrike">
                <a:solidFill>
                  <a:srgbClr val="000000"/>
                </a:solidFill>
                <a:latin typeface="Century Schoolbook"/>
              </a:rPr>
              <a:t>The ducts of the salivary glands open into the mouth. The proximal end of the stomach (i.e. its junction with oesophagus) is guarded by the cardiac sphineter. The distal end of the stomach is guarded by the pyloric sphineter.</a:t>
            </a:r>
            <a:endParaRPr b="0" lang="en-US" sz="25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            </a:t>
            </a:r>
            <a:r>
              <a:rPr b="0" lang="en-US" sz="2500" spc="-1" strike="noStrike">
                <a:solidFill>
                  <a:srgbClr val="000000"/>
                </a:solidFill>
                <a:latin typeface="Century Schoolbook"/>
              </a:rPr>
              <a:t>The small intestine begins after the pyloric sphincter and consists successively of the following subdivisions. Duodenum, jejunum and ileum. The deodenum receives food from the stomach. The bile duct and pancreatic duet jointly open in it through the ampula of vater.</a:t>
            </a: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subTitle"/>
          </p:nvPr>
        </p:nvSpPr>
        <p:spPr>
          <a:xfrm>
            <a:off x="0" y="-360"/>
            <a:ext cx="9144000" cy="6629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Composition of LI Secretion:-</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large intestinal juice contains 99.5% of water and 0.5% solids.</a:t>
            </a:r>
            <a:endParaRPr b="0" lang="en-US" sz="2800" spc="-1" strike="noStrike">
              <a:solidFill>
                <a:srgbClr val="000000"/>
              </a:solidFill>
              <a:latin typeface="Century Schoolbook"/>
            </a:endParaRPr>
          </a:p>
          <a:p>
            <a:pPr>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Organic Substances:-</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organic substances presents in this are albumin, globulin, mucin, urea and debris of cpithelial cells.</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Inorganic Substances:-</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inorganic substance presents in this juice are sodium, potassium, chlorine and bicarbonate the concentration of bicarbonate is high</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Function of LI Secretion:-</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Neutralization of Acids:-</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Strong acids formed by bacterial action in LI are neutralized by the alhalive nature of L intestinal juice. The alhalinity of this juice is mainly due to the presence of large quantity of bicarbonate.</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Lubrication Activity:-</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mucin presents in secretion of large intestine lubricates the mucosa of large intestine and the bowel contents, so that, the movements of bowel is bowel is facilitated.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                              </a:t>
            </a:r>
            <a:r>
              <a:rPr b="1" lang="en-US" sz="2800" spc="-1" strike="noStrike" u="sng">
                <a:solidFill>
                  <a:srgbClr val="575f6d"/>
                </a:solidFill>
                <a:uFillTx/>
                <a:latin typeface="Century Schoolbook"/>
              </a:rPr>
              <a:t>ABSORPTION</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Definition:-</a:t>
            </a:r>
            <a:r>
              <a:rPr b="1" lang="en-US" sz="2800" spc="-1" strike="noStrike">
                <a:solidFill>
                  <a:srgbClr val="575f6d"/>
                </a:solidFill>
                <a:latin typeface="Century Schoolbook"/>
              </a:rPr>
              <a:t> The absorption is a process by which the minerals vitamins, water and end products of digestion passes through the intestinal epithelium and enter into blood stream.</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General Principle of Absorption:-</a:t>
            </a:r>
            <a:r>
              <a:rPr b="1" lang="en-US" sz="2800" spc="-1" strike="noStrike">
                <a:solidFill>
                  <a:srgbClr val="575f6d"/>
                </a:solidFill>
                <a:latin typeface="Century Schoolbook"/>
              </a:rPr>
              <a:t> The absorption is related to physico-chemical principle. The following are the believed to be involved in the process of absorption.</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Diffusion:-</a:t>
            </a:r>
            <a:r>
              <a:rPr b="1" lang="en-US" sz="2800" spc="-1" strike="noStrike">
                <a:solidFill>
                  <a:srgbClr val="575f6d"/>
                </a:solidFill>
                <a:latin typeface="Century Schoolbook"/>
              </a:rPr>
              <a:t> this depends upon the relative concentration of the substance on either side of permeable membrane. The concentration of the end products of digestion in much higher in the intestine then in blood in health. The difference initiabs  </a:t>
            </a:r>
            <a:r>
              <a:rPr b="1" lang="en-US" sz="2800" spc="-1" strike="noStrike" u="sng">
                <a:solidFill>
                  <a:srgbClr val="575f6d"/>
                </a:solidFill>
                <a:uFillTx/>
                <a:latin typeface="Century Schoolbook"/>
              </a:rPr>
              <a:t> </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3" descr="\\Phoonk\D\My Pictures\Pictures\Amrita\Picture 02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diffusion currents from the lumen of the intestinal into blood strem and thus helps in absorption.</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Hydrostatic Pressure:-</a:t>
            </a:r>
            <a:r>
              <a:rPr b="1" lang="en-US" sz="2800" spc="-1" strike="noStrike">
                <a:solidFill>
                  <a:srgbClr val="575f6d"/>
                </a:solidFill>
                <a:latin typeface="Century Schoolbook"/>
              </a:rPr>
              <a:t> hamburger found that amount of absorption is directly proportional to the Hydrostatic pressure in the intestine.</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Osmotic pressure:-</a:t>
            </a:r>
            <a:r>
              <a:rPr b="1" lang="en-US" sz="2800" spc="-1" strike="noStrike">
                <a:solidFill>
                  <a:srgbClr val="575f6d"/>
                </a:solidFill>
                <a:latin typeface="Century Schoolbook"/>
              </a:rPr>
              <a:t> the colloidal osmotic pressure in the capillary loop of the uillus in fairly high and is nearly two to three times higher than the blood pressure existing in gt. This high osmotic pressure help in drawing the flood from the lumen into blood.</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Hdrotrophy:-</a:t>
            </a:r>
            <a:r>
              <a:rPr b="1" lang="en-US" sz="2800" spc="-1" strike="noStrike">
                <a:solidFill>
                  <a:srgbClr val="575f6d"/>
                </a:solidFill>
                <a:latin typeface="Century Schoolbook"/>
              </a:rPr>
              <a:t> This is a pressure by means of which substance insoluble in water are converted in to soluble forms. In thin way they are brourth into a suitable state for absorption.   </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 </a:t>
            </a:r>
            <a:r>
              <a:rPr b="1" lang="en-US" sz="2800" spc="-1" strike="noStrike" u="sng">
                <a:solidFill>
                  <a:srgbClr val="575f6d"/>
                </a:solidFill>
                <a:uFillTx/>
                <a:latin typeface="Century Schoolbook"/>
              </a:rPr>
              <a:t>Passive and active transport:- </a:t>
            </a:r>
            <a:r>
              <a:rPr b="1" lang="en-US" sz="2800" spc="-1" strike="noStrike">
                <a:solidFill>
                  <a:srgbClr val="575f6d"/>
                </a:solidFill>
                <a:latin typeface="Century Schoolbook"/>
              </a:rPr>
              <a:t>In the passive transport mechanism special physical force is not required as for intestine if any particular food substance remains in higher concentration in the lumen of the intestine, the energy for movement is derived form the higher concentration of the food substance. In the active transport mechanism there is a currier mechanism which help in movement of food substance against the electrical forces.</a:t>
            </a:r>
            <a:endParaRPr b="0" lang="en-US" sz="2800" spc="-1" strike="noStrike">
              <a:solidFill>
                <a:srgbClr val="000000"/>
              </a:solidFill>
              <a:latin typeface="Century Schoolbook"/>
            </a:endParaRPr>
          </a:p>
          <a:p>
            <a:pPr>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The organ which involves in absorption.</a:t>
            </a:r>
            <a:endParaRPr b="0" lang="en-US" sz="2800" spc="-1" strike="noStrike">
              <a:solidFill>
                <a:srgbClr val="000000"/>
              </a:solidFill>
              <a:latin typeface="Century Schoolbook"/>
            </a:endParaRPr>
          </a:p>
          <a:p>
            <a:pPr>
              <a:lnSpc>
                <a:spcPct val="9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Stomach</a:t>
            </a:r>
            <a:r>
              <a:rPr b="1" lang="en-US" sz="2800" spc="-1" strike="noStrike">
                <a:solidFill>
                  <a:srgbClr val="575f6d"/>
                </a:solidFill>
                <a:latin typeface="Century Schoolbook"/>
              </a:rPr>
              <a:t>:- It absorbs very little amount of food stuffs because under normal condition the end products of gastric digestion are not absorbale, but those simple which do not require digestion may pass through the gastic epithellium, hence water, alcohol, glucose and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nd certain easily diffusible drug are absorbed by stomach to same extent.</a:t>
            </a:r>
            <a:endParaRPr b="0" lang="en-US" sz="2800" spc="-1" strike="noStrike">
              <a:solidFill>
                <a:srgbClr val="000000"/>
              </a:solidFill>
              <a:latin typeface="Century Schoolbook"/>
            </a:endParaRPr>
          </a:p>
          <a:p>
            <a:pPr>
              <a:lnSpc>
                <a:spcPct val="9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Smaller intestine:- It is chief place for absorption. It upper part is more concerned with secretion whereas, the lower por for absorption. The end products of digestive as well as salts, vitamin and water are all absorbed through small intestine. The Ville of small intestine help in absorption.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Villi:-</a:t>
            </a:r>
            <a:r>
              <a:rPr b="1" lang="en-US" sz="2800" spc="-1" strike="noStrike">
                <a:solidFill>
                  <a:srgbClr val="575f6d"/>
                </a:solidFill>
                <a:latin typeface="Century Schoolbook"/>
              </a:rPr>
              <a:t> it is fingle like projection present in the mucsa of small intestine. In the upper part of small intestine they are large in the number then the distsal part of small intestine less in number . Each villus (singular). Is characterized by a brush border consisting of as many as 1000 micovilli the villi and microvilli increase the absortive area of mucosa of small intestin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Fig:- </a:t>
            </a:r>
            <a:endParaRPr b="0" lang="en-US" sz="28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  </a:t>
            </a:r>
            <a:r>
              <a:rPr b="1" lang="en-US" sz="2400" spc="-1" strike="noStrike">
                <a:solidFill>
                  <a:srgbClr val="575f6d"/>
                </a:solidFill>
                <a:latin typeface="Century Schoolbook"/>
              </a:rPr>
              <a:t>In the diagram showing the advantageous arrangement of the vascular system for absorption of fluid and dissolved material into portal blood and the arrangement of the central lacteal for absorption into lymph.</a:t>
            </a:r>
            <a:endParaRPr b="0" lang="en-US" sz="24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75f6d"/>
                </a:solidFill>
                <a:uFillTx/>
                <a:latin typeface="Century Schoolbook"/>
              </a:rPr>
              <a:t>Large intestine:- </a:t>
            </a:r>
            <a:r>
              <a:rPr b="1" lang="en-US" sz="2400" spc="-1" strike="noStrike">
                <a:solidFill>
                  <a:srgbClr val="575f6d"/>
                </a:solidFill>
                <a:latin typeface="Century Schoolbook"/>
              </a:rPr>
              <a:t> it mainly absorb water, saline, glucose, alcohol, and certain drugs may to same extent be also absorbed from this part.</a:t>
            </a:r>
            <a:endParaRPr b="0" lang="en-US" sz="24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ABSORBATION OF CARBOHYDRATES</a:t>
            </a:r>
            <a:endParaRPr b="0" lang="en-US" sz="28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In absorption of carbohydrates including following points </a:t>
            </a:r>
            <a:endParaRPr b="0" lang="en-US" sz="28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Introduction </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Process of absorption</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Mechanism of transport</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Factor affecting rate of carbohydrates absorption </a:t>
            </a:r>
            <a:r>
              <a:rPr b="1" lang="en-US" sz="2400" spc="-1" strike="noStrike">
                <a:solidFill>
                  <a:srgbClr val="575f6d"/>
                </a:solidFill>
                <a:latin typeface="Century Schoolbook"/>
              </a:rPr>
              <a:t>	</a:t>
            </a:r>
            <a:r>
              <a:rPr b="1" lang="en-US" sz="2400" spc="-1" strike="noStrike">
                <a:solidFill>
                  <a:srgbClr val="575f6d"/>
                </a:solidFill>
                <a:latin typeface="Century Schoolbook"/>
              </a:rPr>
              <a:t>	</a:t>
            </a:r>
            <a:r>
              <a:rPr b="1" lang="en-US" sz="2400" spc="-1" strike="noStrike">
                <a:solidFill>
                  <a:srgbClr val="575f6d"/>
                </a:solidFill>
                <a:latin typeface="Century Schoolbook"/>
              </a:rPr>
              <a:t>	</a:t>
            </a:r>
            <a:r>
              <a:rPr b="1" lang="en-US" sz="2400" spc="-1" strike="noStrike">
                <a:solidFill>
                  <a:srgbClr val="575f6d"/>
                </a:solidFill>
                <a:latin typeface="Century Schoolbook"/>
              </a:rPr>
              <a:t>	</a:t>
            </a:r>
            <a:r>
              <a:rPr b="1" lang="en-US" sz="2400" spc="-1" strike="noStrike">
                <a:solidFill>
                  <a:srgbClr val="575f6d"/>
                </a:solidFill>
                <a:latin typeface="Century Schoolbook"/>
              </a:rPr>
              <a:t>	</a:t>
            </a:r>
            <a:r>
              <a:rPr b="1" lang="en-US" sz="2400" spc="-1" strike="noStrike">
                <a:solidFill>
                  <a:srgbClr val="575f6d"/>
                </a:solidFill>
                <a:latin typeface="Century Schoolbook"/>
              </a:rPr>
              <a:t>	</a:t>
            </a:r>
            <a:r>
              <a:rPr b="1" lang="en-US" sz="2400" spc="-1" strike="noStrike">
                <a:solidFill>
                  <a:srgbClr val="575f6d"/>
                </a:solidFill>
                <a:latin typeface="Century Schoolbook"/>
              </a:rPr>
              <a:t>	</a:t>
            </a:r>
            <a:r>
              <a:rPr b="1" lang="en-US" sz="2800" spc="-1" strike="noStrike">
                <a:solidFill>
                  <a:srgbClr val="575f6d"/>
                </a:solidFill>
                <a:latin typeface="Century Schoolbook"/>
              </a:rPr>
              <a:t>	</a:t>
            </a:r>
            <a:r>
              <a:rPr b="1" lang="en-US" sz="2800" spc="-1" strike="noStrike">
                <a:solidFill>
                  <a:srgbClr val="575f6d"/>
                </a:solidFill>
                <a:latin typeface="Century Schoolbook"/>
              </a:rPr>
              <a:t>	</a:t>
            </a:r>
            <a:r>
              <a:rPr b="1" lang="en-US" sz="2800" spc="-1" strike="noStrike">
                <a:solidFill>
                  <a:srgbClr val="575f6d"/>
                </a:solidFill>
                <a:latin typeface="Century Schoolbook"/>
              </a:rPr>
              <a:t>-</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Intoduction:- </a:t>
            </a:r>
            <a:r>
              <a:rPr b="1" lang="en-US" sz="2800" spc="-1" strike="noStrike">
                <a:solidFill>
                  <a:srgbClr val="575f6d"/>
                </a:solidFill>
                <a:latin typeface="Century Schoolbook"/>
              </a:rPr>
              <a:t>essentially all the carbohydrates in the food are absorbed in the form of monosaccharide only a small amount are absorbed monosaccharide in glucose usually accounting for more than 80% of carbohydrate calories absorbed. The reason for this is that glucose in the final digestive products of over most abundant carbohydrate food, the starches. The remaining 20% of absorbed monosaccharide are composed almost entirely of gelatos and fructose, the gelatos derived form milk and the fructose's are one of the monosaccharide in come sugar. Monosaccharide which are formed either in the gut lumen or in brus border of the epithelial cell are absorbed from the jejunum and upper part of ilea.</a:t>
            </a:r>
            <a:endParaRPr b="0" lang="en-US" sz="2800" spc="-1" strike="noStrike">
              <a:solidFill>
                <a:srgbClr val="000000"/>
              </a:solidFill>
              <a:latin typeface="Century Schoolbook"/>
            </a:endParaRPr>
          </a:p>
          <a:p>
            <a:pPr lvl="1" marL="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Process of absorption:-</a:t>
            </a:r>
            <a:r>
              <a:rPr b="0" lang="en-US" sz="2400" spc="-1" strike="noStrike">
                <a:solidFill>
                  <a:srgbClr val="000000"/>
                </a:solidFill>
                <a:latin typeface="Century Schoolbook"/>
              </a:rPr>
              <a:t> It include two process</a:t>
            </a:r>
            <a:endParaRPr b="0" lang="en-US" sz="24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 Simple Process.</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b). Active transport.</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Simple diffusion:-</a:t>
            </a:r>
            <a:r>
              <a:rPr b="1" lang="en-US" sz="2800" spc="-1" strike="noStrike">
                <a:solidFill>
                  <a:srgbClr val="575f6d"/>
                </a:solidFill>
                <a:latin typeface="Century Schoolbook"/>
              </a:rPr>
              <a:t> It occur when concentration of sugar in the gut exceeds that in the blood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Active transport:-</a:t>
            </a:r>
            <a:r>
              <a:rPr b="1" lang="en-US" sz="2800" spc="-1" strike="noStrike">
                <a:solidFill>
                  <a:srgbClr val="575f6d"/>
                </a:solidFill>
                <a:latin typeface="Century Schoolbook"/>
              </a:rPr>
              <a:t> This causes when absorbtion of sugar again their concentration gradient in mesenteric blood, which requires energy. The energy supplied form cellular metabolism.</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Mechanism of metabolism:- </a:t>
            </a:r>
            <a:r>
              <a:rPr b="1" lang="en-US" sz="2800" spc="-1" strike="noStrike">
                <a:solidFill>
                  <a:srgbClr val="575f6d"/>
                </a:solidFill>
                <a:latin typeface="Century Schoolbook"/>
              </a:rPr>
              <a:t>The transportation of glucose occur in two steps.</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Step1:-</a:t>
            </a:r>
            <a:r>
              <a:rPr b="1" lang="en-US" sz="2800" spc="-1" strike="noStrike">
                <a:solidFill>
                  <a:srgbClr val="575f6d"/>
                </a:solidFill>
                <a:latin typeface="Century Schoolbook"/>
              </a:rPr>
              <a:t> Glucose combines which a carrier, a mobile compoint if cell membrane to from glucose carries complex which move the glucose across the lipid barrier of cell membrane and release the glucose inside the cell. The glucose and the sodium have some carrier compound called the sodium dependent glucose transporter-I (SGIT-I). this step requires no energy (diffusio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500" spc="-1" strike="noStrike">
                <a:solidFill>
                  <a:srgbClr val="000000"/>
                </a:solidFill>
                <a:latin typeface="Century Schoolbook"/>
              </a:rPr>
              <a:t>The small intestine is very long and is roughly about 7.6 meters (25 feet). The great length of small intestine provide enough time and surface area so that digestion and absorption of food stuff may be complete.  The small intestine opens into the next part the large intestine. The opening between them is guarded by iliocolic sphincter. In the LI water is absorbed and the faeces become formed. The LI opens into the last part rectum and anal canal.</a:t>
            </a:r>
            <a:endParaRPr b="0" lang="en-US" sz="25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entury Schoolbook"/>
              </a:rPr>
              <a:t>Histological Structure</a:t>
            </a:r>
            <a:endParaRPr b="0" lang="en-US" sz="25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 </a:t>
            </a:r>
            <a:r>
              <a:rPr b="0" lang="en-US" sz="2500" spc="-1" strike="noStrike">
                <a:solidFill>
                  <a:srgbClr val="000000"/>
                </a:solidFill>
                <a:latin typeface="Century Schoolbook"/>
              </a:rPr>
              <a:t>The wall of the aliminatery canal from the oesophagus to the anal canal consist of four encircling ayers or tunics from outside to inwards.</a:t>
            </a:r>
            <a:endParaRPr b="0" lang="en-US" sz="25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1) Tunica adventitia or serosa:- Fibrous outer coat carries large blood vessels and nerves. When the organ is covered by the peritoneum, this layer is called serosa, otherwise tunica adventitia.  </a:t>
            </a: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Step2-</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o concentrate the glucose with the cell, the carries is coupled to a source of energy which is provided indirectly by the active transport of Na+ out of the cell into intercellular space. Sodium affects the supply of energy from A.T.P. by activating ATP as in cell membrane the glucose in transported by glucose transporter-2 (GLUT2) in the interstitial space and thence to blood capillary. Maximum rate of glucose absorption form the intestine about 120 gm/hour.</a:t>
            </a:r>
            <a:endParaRPr b="0" lang="en-US" sz="2800" spc="-1" strike="noStrike">
              <a:solidFill>
                <a:srgbClr val="000000"/>
              </a:solidFill>
              <a:latin typeface="Century Schoolbook"/>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Absorption of other monosaccharide:- </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Galactose is transported by almost exactly the same mechanism of glucose. Conversely fructose transport does not occur by sodium co-transport mechanism, so fructose is transported by facilities diffusion all the way through the intestinal epithelium but not coupled with sodium transport.</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Factor affecting glucose absorption:-</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Role of endocrine.</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 </a:t>
            </a:r>
            <a:r>
              <a:rPr b="1" lang="en-US" sz="2800" spc="-1" strike="noStrike" u="sng">
                <a:solidFill>
                  <a:srgbClr val="575f6d"/>
                </a:solidFill>
                <a:uFillTx/>
                <a:latin typeface="Century Schoolbook"/>
              </a:rPr>
              <a:t>Thyroid:-</a:t>
            </a:r>
            <a:r>
              <a:rPr b="1" lang="en-US" sz="2800" spc="-1" strike="noStrike">
                <a:solidFill>
                  <a:srgbClr val="575f6d"/>
                </a:solidFill>
                <a:latin typeface="Century Schoolbook"/>
              </a:rPr>
              <a:t> thyroxin increases glucose absorption</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Anterior:-</a:t>
            </a:r>
            <a:r>
              <a:rPr b="1" lang="en-US" sz="2800" spc="-1" strike="noStrike">
                <a:solidFill>
                  <a:srgbClr val="575f6d"/>
                </a:solidFill>
                <a:latin typeface="Century Schoolbook"/>
              </a:rPr>
              <a:t> If affects glucose absorption by influencing the thyroid.</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Cortex deficiency:-</a:t>
            </a:r>
            <a:r>
              <a:rPr b="1" lang="en-US" sz="2800" spc="-1" strike="noStrike">
                <a:solidFill>
                  <a:srgbClr val="575f6d"/>
                </a:solidFill>
                <a:latin typeface="Century Schoolbook"/>
              </a:rPr>
              <a:t> It decrease glucose absorption.</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 </a:t>
            </a:r>
            <a:r>
              <a:rPr b="1" lang="en-US" sz="2800" spc="-1" strike="noStrike" u="sng">
                <a:solidFill>
                  <a:srgbClr val="575f6d"/>
                </a:solidFill>
                <a:uFillTx/>
                <a:latin typeface="Century Schoolbook"/>
              </a:rPr>
              <a:t>FIG:-…….</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ABSORPTION OF ETECLROTYLES</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Sodium absorption:-</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Some Na+ diffuse into or out of small intestine passively depends an concentration gradient. In addition Na+ is actively transported out of the lymen into the small intestine and colon by Na+-R’ pump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Potassium absorption:-</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Movement of K+ across the GIT mucosa is mainly to passive diffusion down. The intestinal lumen , specially as a component of mucus. Net movement of K+ is directly proportional to the potential difference between blood and intestinal lumen. In jejunum this potential difference is approx 5mv, in ileum is 26ml and in colon 50ml.</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Chloride and bicarbonate absorption:-</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CI is normally secreted into the lumen of the small intestine by CI channels that are activated by c Amp intestinal cell also take up Na+,K+, and Cl- by a 1 Na+, -k-  -2cl- co transporter in the basolatras membrane.</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In the ileun and the  colon it appears that cl- is actively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Reabsardrd in a one for me exchange for Hcl3- thus make the intestines content more alkaline.</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Absorption of water</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main physico-chemical force which help in water absorption </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Hydrostatic pressure</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Endo-osmosis and osmotic pressure.</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But mainly osmotic pressure ply an important role in the absorption process. A little water is Absorbed from the stomach. But intestine in which is the chief seat of water absorption. The large intestine absorb all the residual water and flows solid stool.</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water in transported through the intestinal membrane entirely by diffusion further more thin diffusion obey the usual low of osmosis therefore, when chyem is diluted , water in the villi by osmosi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Conversely water can also by transported in the opposite direction from the plasma into the chyme. This occur specially when hperomotic solution are dischorged from the stomach into the duodenum with in minutes. Sufficient water usually will be transferred by osmosis to make the chyme is osmotic with the plasma.</a:t>
            </a:r>
            <a:endParaRPr b="0" lang="en-US" sz="2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75f6d"/>
                </a:solidFill>
                <a:uFillTx/>
                <a:latin typeface="Century Schoolbook"/>
              </a:rPr>
              <a:t>Absorption of proteins</a:t>
            </a:r>
            <a:endParaRPr b="0" lang="en-US" sz="2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Diebey protein under physiological condition are absorbed as amino acids.</a:t>
            </a:r>
            <a:endParaRPr b="0" lang="en-US" sz="2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                          </a:t>
            </a:r>
            <a:r>
              <a:rPr b="1" lang="en-US" sz="2600" spc="-1" strike="noStrike">
                <a:solidFill>
                  <a:srgbClr val="575f6d"/>
                </a:solidFill>
                <a:latin typeface="Century Schoolbook"/>
              </a:rPr>
              <a:t>amino acid having following forms.</a:t>
            </a:r>
            <a:endParaRPr b="0" lang="en-US" sz="2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 </a:t>
            </a:r>
            <a:r>
              <a:rPr b="1" lang="en-US" sz="2600" spc="-1" strike="noStrike">
                <a:solidFill>
                  <a:srgbClr val="575f6d"/>
                </a:solidFill>
                <a:latin typeface="Century Schoolbook"/>
              </a:rPr>
              <a:t>a. D- Isomers amino –acids</a:t>
            </a:r>
            <a:endParaRPr b="0" lang="en-US" sz="2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 </a:t>
            </a:r>
            <a:r>
              <a:rPr b="1" lang="en-US" sz="2600" spc="-1" strike="noStrike">
                <a:solidFill>
                  <a:srgbClr val="575f6d"/>
                </a:solidFill>
                <a:latin typeface="Century Schoolbook"/>
              </a:rPr>
              <a:t>b. L- Isomers amino- acid</a:t>
            </a:r>
            <a:endParaRPr b="0" lang="en-US" sz="2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 </a:t>
            </a:r>
            <a:r>
              <a:rPr b="1" lang="en-US" sz="2600" spc="-1" strike="noStrike">
                <a:solidFill>
                  <a:srgbClr val="575f6d"/>
                </a:solidFill>
                <a:latin typeface="Century Schoolbook"/>
              </a:rPr>
              <a:t>D- amino acid are absorbed solely by passive diffussion only, L amino acid are absorbed more rupidls by actively transport.   </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subTitle"/>
          </p:nvPr>
        </p:nvSpPr>
        <p:spPr>
          <a:xfrm>
            <a:off x="0" y="152280"/>
            <a:ext cx="9144000" cy="68580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bsorption of both D and I Isomers is coupled to sodioum transport like contronsport of glucose and sodium. The transported amino-acids accumulate in the mucosal cell and from these cell they enter the inlestinal capillories passively by simple diffusion and facilited diffusion, then via portal vein they reach the liver and general circulation. There fore, after ingestion of a protein meal there occurs a sharp transient rise in the free amino acids content of the portal blood, which prouides the whole body requirement of protei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re are 3 separate transport system for amino-acids.</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 netural amino-acid cdarrier system in the brush border that transports netural amino-acids. It is not dependent.</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A basic carrier amino-acid system also in the brush border that transports basic amino-acids. It is Na+ dependent.</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 separate carrier system in the baso-laterul membrance of intestinal cell that transport proline, hydroxy proline and few other compound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bsorption of Fat</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Fat absorption mainly occur in the upper part of the small intestine but appreciable amount are absorbed from the ileum. Poncreative electro lytes, monoglycerides, fully acid and bile salts interad spontaneously to form polymolecular aggregate called micelles.</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Feature of micelles–</a:t>
            </a:r>
            <a:r>
              <a:rPr b="1" lang="en-US" sz="2800" spc="-1" strike="noStrike">
                <a:solidFill>
                  <a:srgbClr val="575f6d"/>
                </a:solidFill>
                <a:latin typeface="Century Schoolbook"/>
              </a:rPr>
              <a:t> they are water soluble complexs, 3-10mm in diameter with uariable lipid concertration. Micelles themselves are “passivels” absorbed along thaier concentration grudient in to the luminal brush border, where the bile salts are detached to retturn to the internal lumen, finally to be actively reabsorbed more distaly in the ileum.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Fat content of micelles consist of monoglycerides and fally acids. Once inside the interlinal wall, they are dealt with 2 way.</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Monoglycerides and fully acid with 714C atoms are then reosterified to triglycerides in the mucosal cells, which are then couted with a layer of </a:t>
            </a:r>
            <a:r>
              <a:rPr b="1" lang="el-GR" sz="2800" spc="-1" strike="noStrike">
                <a:solidFill>
                  <a:srgbClr val="575f6d"/>
                </a:solidFill>
                <a:latin typeface="Century Schoolbook"/>
                <a:ea typeface="Arial"/>
              </a:rPr>
              <a:t>β</a:t>
            </a:r>
            <a:r>
              <a:rPr b="1" lang="en-US" sz="2800" spc="-1" strike="noStrike">
                <a:solidFill>
                  <a:srgbClr val="575f6d"/>
                </a:solidFill>
                <a:latin typeface="Century Schoolbook"/>
                <a:ea typeface="Arial"/>
              </a:rPr>
              <a:t>- lipo-protein, cholestrol and phosphalipids lall synthesized by rough endoplasmic reticulum of cell dfarming chylomicrons of approx 1lum diameter.chylomicrons anlain 0.5% protein, therefore and uia thorocic cluct gain access in to blood strea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b) Short chain faly acids with 12-14c atoms pass directly from the mucosal cell into the villas blood cupillaries and are tranported as free fuly acids (FFA) also calledNon-esterufied salty acids (NEFA), they are bound to albumin in the blood stream.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Movement of villi, compress the lacteals and villas cpillaries, this increase the mobilization of lipids the thoracic dact and portal vein.</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Cholesterol like the short chain salty acids, is absorbed directly in to the lymphatics and recenverted tere from as cholestrol esters. Its absorption requires presence.bile faly acids and poncreatic juice. It is mainly absorbed from the distal small intestin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2" descr="D:\My Pictures\Pictures\Amrita\Picture 014.jpg"/>
          <p:cNvPicPr/>
          <p:nvPr/>
        </p:nvPicPr>
        <p:blipFill>
          <a:blip r:embed="rId1"/>
          <a:stretch/>
        </p:blipFill>
        <p:spPr>
          <a:xfrm>
            <a:off x="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Absorption of Water</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main physico- chemical force which help in water absorplic </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Hydrostatic Pressure</a:t>
            </a:r>
            <a:endParaRPr b="0" lang="en-US" sz="2800" spc="-1" strike="noStrike">
              <a:solidFill>
                <a:srgbClr val="000000"/>
              </a:solidFill>
              <a:latin typeface="Century Schoolbook"/>
            </a:endParaRPr>
          </a:p>
          <a:p>
            <a:pPr marL="609480" indent="-609480">
              <a:lnSpc>
                <a:spcPct val="70000"/>
              </a:lnSpc>
              <a:spcBef>
                <a:spcPts val="601"/>
              </a:spcBef>
              <a:buClr>
                <a:srgbClr val="fe8637"/>
              </a:buClr>
              <a:buSzPct val="70000"/>
              <a:buFont typeface="Century Schoolbook"/>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 </a:t>
            </a:r>
            <a:r>
              <a:rPr b="1" lang="en-US" sz="2800" spc="-1" strike="noStrike" u="sng">
                <a:solidFill>
                  <a:srgbClr val="575f6d"/>
                </a:solidFill>
                <a:uFillTx/>
                <a:latin typeface="Century Schoolbook"/>
              </a:rPr>
              <a:t>Endo- osmosis and osmotic pressure</a:t>
            </a:r>
            <a:r>
              <a:rPr b="1" lang="en-US" sz="2800" spc="-1" strike="noStrike">
                <a:solidFill>
                  <a:srgbClr val="575f6d"/>
                </a:solidFill>
                <a:latin typeface="Century Schoolbook"/>
              </a:rPr>
              <a:t>.</a:t>
            </a:r>
            <a:endParaRPr b="0" lang="en-US" sz="28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But mainly osmotic pressure play an important role in the absorption process. A little water is absorbed from the stomach. But small intestine absorb all the resiclcal water and forms solid stool.</a:t>
            </a:r>
            <a:endParaRPr b="0" lang="en-US" sz="2800" spc="-1" strike="noStrike">
              <a:solidFill>
                <a:srgbClr val="000000"/>
              </a:solidFill>
              <a:latin typeface="Century School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Water is transported through the intestinal member entirely by diffusion. Therefore, when chyme is dilute, water is absorbed through the intestinal mucosal into chyme. This occur specially when hyper osmotic solution are discharged from the stomach into the duodenum. With in minutes, sufficient water usually will be transferred by osmosis to make the chyme is osmotic with the plasma.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GASTRO INSTESTINAL  HORMONES</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aphicFrame>
        <p:nvGraphicFramePr>
          <p:cNvPr id="542" name=""/>
          <p:cNvGraphicFramePr/>
          <p:nvPr/>
        </p:nvGraphicFramePr>
        <p:xfrm>
          <a:off x="457200" y="990720"/>
          <a:ext cx="8077320" cy="5638680"/>
        </p:xfrm>
        <a:graphic>
          <a:graphicData uri="http://schemas.openxmlformats.org/drawingml/2006/table">
            <a:tbl>
              <a:tblPr/>
              <a:tblGrid>
                <a:gridCol w="1682640"/>
                <a:gridCol w="3230640"/>
                <a:gridCol w="3164040"/>
              </a:tblGrid>
              <a:tr h="5638680">
                <a:tc>
                  <a:txBody>
                    <a:bodyPr lIns="90000" rIns="90000" tIns="46800" bIns="46800" anchor="t">
                      <a:no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ormone</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Gastrin </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urce of secretio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cell in the stomach</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 cells in GI Tract</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te in fetal pancreas</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pituitary </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ctions</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d gastric secution &amp; notility.</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growth of gastric mucoca</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release of pancreatic hormon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secution of pancreatic juice</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3" name=""/>
          <p:cNvGraphicFramePr/>
          <p:nvPr/>
        </p:nvGraphicFramePr>
        <p:xfrm>
          <a:off x="0" y="0"/>
          <a:ext cx="9144000" cy="6858000"/>
        </p:xfrm>
        <a:graphic>
          <a:graphicData uri="http://schemas.openxmlformats.org/drawingml/2006/table">
            <a:tbl>
              <a:tblPr/>
              <a:tblGrid>
                <a:gridCol w="2133720"/>
                <a:gridCol w="3429000"/>
                <a:gridCol w="3581280"/>
              </a:tblGrid>
              <a:tr h="6858000">
                <a:tc>
                  <a:txBody>
                    <a:bodyPr lIns="90000" rIns="90000" tIns="46800" bIns="46800" anchor="t">
                      <a:noAutofit/>
                    </a:bodyPr>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i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lecystokinin</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ll of small intestine </a:t>
                      </a: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ells of small Intestine</a:t>
                      </a:r>
                      <a:endParaRPr b="1" lang="en-US" sz="2400" spc="-1" strike="noStrike">
                        <a:solidFill>
                          <a:srgbClr val="000000"/>
                        </a:solidFill>
                        <a:latin typeface="Arial"/>
                      </a:endParaRPr>
                    </a:p>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secretion of watery and alkaline pancreatic juic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s gastric secution &amp; notility</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icts pyloric sphincter.</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uses potency of cck action</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nstricts gall bladder.</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timulates pancreatic secution with enzym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4" name=""/>
          <p:cNvGraphicFramePr/>
          <p:nvPr/>
        </p:nvGraphicFramePr>
        <p:xfrm>
          <a:off x="0" y="0"/>
          <a:ext cx="9144000" cy="6858000"/>
        </p:xfrm>
        <a:graphic>
          <a:graphicData uri="http://schemas.openxmlformats.org/drawingml/2006/table">
            <a:tbl>
              <a:tblPr/>
              <a:tblGrid>
                <a:gridCol w="1905120"/>
                <a:gridCol w="3657600"/>
                <a:gridCol w="3581280"/>
              </a:tblGrid>
              <a:tr h="6858000">
                <a:tc>
                  <a:txBody>
                    <a:bodyPr lIns="90000" rIns="90000" tIns="46800" bIns="46800" anchor="t">
                      <a:no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601"/>
                        </a:spcBef>
                        <a:buClr>
                          <a:srgbClr val="0000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deberate secretin activity</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enterokinose secretio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s gastric motility.</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testinal motility </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resses hunger</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s contraction of pyloric sphincter.</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ces drug tolerance to opoid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5" name=""/>
          <p:cNvGraphicFramePr/>
          <p:nvPr/>
        </p:nvGraphicFramePr>
        <p:xfrm>
          <a:off x="0" y="0"/>
          <a:ext cx="9144000" cy="6858000"/>
        </p:xfrm>
        <a:graphic>
          <a:graphicData uri="http://schemas.openxmlformats.org/drawingml/2006/table">
            <a:tbl>
              <a:tblPr/>
              <a:tblGrid>
                <a:gridCol w="1905120"/>
                <a:gridCol w="3657600"/>
                <a:gridCol w="3581280"/>
              </a:tblGrid>
              <a:tr h="6858000">
                <a:tc>
                  <a:txBody>
                    <a:bodyPr lIns="90000" rIns="90000" tIns="46800" bIns="46800" anchor="t">
                      <a:noAutofit/>
                    </a:bodyPr>
                    <a:p>
                      <a:pPr marL="533520" indent="-533520">
                        <a:lnSpc>
                          <a:spcPct val="100000"/>
                        </a:lnSpc>
                        <a:spcBef>
                          <a:spcPts val="550"/>
                        </a:spcBef>
                        <a:buClr>
                          <a:srgbClr val="000000"/>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P</a:t>
                      </a: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P</a:t>
                      </a:r>
                      <a:endParaRPr b="1"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55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cell in duodenum &amp; jejunum.</a:t>
                      </a: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rum of stomach</a:t>
                      </a: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533520" indent="-533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Stomach </a:t>
                      </a:r>
                      <a:endParaRPr b="1" lang="en-US" sz="2200" spc="-1" strike="noStrike">
                        <a:solidFill>
                          <a:srgbClr val="000000"/>
                        </a:solidFill>
                        <a:latin typeface="Arial"/>
                      </a:endParaRPr>
                    </a:p>
                    <a:p>
                      <a:pPr marL="533520" indent="-533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Small &amp; large intestine.</a:t>
                      </a:r>
                      <a:endParaRPr b="1" lang="en-US" sz="22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55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es insulin secution.</a:t>
                      </a: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s gastric secution &amp; motility.</a:t>
                      </a:r>
                      <a:endParaRPr b="1" lang="en-US" sz="2200" spc="-1" strike="noStrike">
                        <a:solidFill>
                          <a:srgbClr val="000000"/>
                        </a:solidFill>
                        <a:latin typeface="Arial"/>
                      </a:endParaRPr>
                    </a:p>
                    <a:p>
                      <a:pPr marL="533520" indent="-533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Dialates splanchnic (peripheral) blood vessel.</a:t>
                      </a: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s Hcl secution in gastric juice.</a:t>
                      </a: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es secution of succus enteriaes.</a:t>
                      </a: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xes smooth muscles of intestine </a:t>
                      </a: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ugments acetylcholine action on salivary glands.</a:t>
                      </a:r>
                      <a:endParaRPr b="1" lang="en-US" sz="2200" spc="-1" strike="noStrike">
                        <a:solidFill>
                          <a:srgbClr val="000000"/>
                        </a:solidFill>
                        <a:latin typeface="Arial"/>
                      </a:endParaRPr>
                    </a:p>
                    <a:p>
                      <a:pPr marL="533520" indent="-533520">
                        <a:lnSpc>
                          <a:spcPct val="100000"/>
                        </a:lnSpc>
                        <a:spcBef>
                          <a:spcPts val="55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es insuline secretion</a:t>
                      </a:r>
                      <a:endParaRPr b="1"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 name=""/>
          <p:cNvGraphicFramePr/>
          <p:nvPr/>
        </p:nvGraphicFramePr>
        <p:xfrm>
          <a:off x="0" y="0"/>
          <a:ext cx="9144000" cy="6858000"/>
        </p:xfrm>
        <a:graphic>
          <a:graphicData uri="http://schemas.openxmlformats.org/drawingml/2006/table">
            <a:tbl>
              <a:tblPr/>
              <a:tblGrid>
                <a:gridCol w="2133720"/>
                <a:gridCol w="3429000"/>
                <a:gridCol w="3581280"/>
              </a:tblGrid>
              <a:tr h="6858000">
                <a:tc>
                  <a:txBody>
                    <a:bodyPr lIns="90000" rIns="90000" tIns="46800" bIns="46800" anchor="t">
                      <a:noAutofit/>
                    </a:bodyPr>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ago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centi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P-1</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P-2</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atostati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α</a:t>
                      </a:r>
                      <a:r>
                        <a:rPr b="0" lang="en-US" sz="2400" spc="-1" strike="noStrike">
                          <a:solidFill>
                            <a:srgbClr val="000000"/>
                          </a:solidFill>
                          <a:latin typeface="Arial"/>
                          <a:ea typeface="Arial"/>
                        </a:rPr>
                        <a:t>-cell in pancreas </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ai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cells in duodenum  </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α</a:t>
                      </a:r>
                      <a:r>
                        <a:rPr b="0" lang="en-US" sz="2400" spc="-1" strike="noStrike">
                          <a:solidFill>
                            <a:srgbClr val="000000"/>
                          </a:solidFill>
                          <a:latin typeface="Arial"/>
                          <a:ea typeface="Arial"/>
                        </a:rPr>
                        <a:t>-cell in pancreas.</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ain. </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cell in ileum colon.</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ypothalamus </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cells i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cells in stomach intestine.</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blood sugar level</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blood sugar level</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timulation insulin secution .</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hibits gastric motility.</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resses appetit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s secution of GH &amp; TSH.</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s gastric secretion  &amp; mobility.</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7" name=""/>
          <p:cNvGraphicFramePr/>
          <p:nvPr/>
        </p:nvGraphicFramePr>
        <p:xfrm>
          <a:off x="0" y="0"/>
          <a:ext cx="9144000" cy="6894360"/>
        </p:xfrm>
        <a:graphic>
          <a:graphicData uri="http://schemas.openxmlformats.org/drawingml/2006/table">
            <a:tbl>
              <a:tblPr/>
              <a:tblGrid>
                <a:gridCol w="2133720"/>
                <a:gridCol w="3429000"/>
                <a:gridCol w="3581280"/>
              </a:tblGrid>
              <a:tr h="69224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Pancreatic polypeptide.</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e yy.</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peptide y.</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P cell in pancreas </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all intestin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cell of ileum &amp; colo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ileum &amp; colon.</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Brain &amp; ANS.</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secution of glucago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uases pancuatic secutio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hibits gastric secution of glucago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secution of pancuatic gas.</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s intestinal mobility </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resses appetite &amp; food intak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creases blood flow in enteric blood vessel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0" y="0"/>
          <a:ext cx="9144000" cy="6894360"/>
        </p:xfrm>
        <a:graphic>
          <a:graphicData uri="http://schemas.openxmlformats.org/drawingml/2006/table">
            <a:tbl>
              <a:tblPr/>
              <a:tblGrid>
                <a:gridCol w="2209680"/>
                <a:gridCol w="3353040"/>
                <a:gridCol w="3581280"/>
              </a:tblGrid>
              <a:tr h="6938280">
                <a:tc>
                  <a:txBody>
                    <a:bodyPr lIns="90000" rIns="90000" tIns="46800" bIns="46800" anchor="t">
                      <a:noAutofit/>
                    </a:bodyPr>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Subxtahce p</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otilin</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Ghrelim</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ain </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all intestin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No cell into intestin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uochromaffin intestin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omach </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ypotelamus.</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ituitary</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idney</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centa</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timulates food intake.</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movement of small intestine.</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lturates gastric emptying.</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movements of small intestine.</a:t>
                      </a:r>
                      <a:endParaRPr b="1" lang="en-US" sz="2400" spc="-1" strike="noStrike">
                        <a:solidFill>
                          <a:srgbClr val="000000"/>
                        </a:solidFill>
                        <a:latin typeface="Arial"/>
                      </a:endParaRPr>
                    </a:p>
                    <a:p>
                      <a:pPr marL="533520" indent="-53352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stalsis in colon.</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omotes GH release.</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uces appetite &amp; food intakes.</a:t>
                      </a:r>
                      <a:endParaRPr b="1"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timulates gastric emptying.</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MOVEMENTS OF GASTOINTESTINAL TRACT:-</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Following movements occur in the GI tract:-</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Mastication</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Deglutition</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Movements of the stomach </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Movements of small intestine</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Movements of large intestine3</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Defecation</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All the movements are caused by the contractions the appropriate muscles for mastication &amp; initial part of deglutition and initied part of deglutition, muscles conceded are volumtary muscle whereas movements of the stomach &amp; intestine are carried on by contractions of the stomach muscles. For defecation rolentary muscle worke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75f6d"/>
                </a:solidFill>
                <a:uFillTx/>
                <a:latin typeface="Century Schoolbook"/>
              </a:rPr>
              <a:t>MASTICATION:-</a:t>
            </a:r>
            <a:r>
              <a:rPr b="1" lang="en-US" sz="2600" spc="-1" strike="noStrike">
                <a:solidFill>
                  <a:srgbClr val="575f6d"/>
                </a:solidFill>
                <a:latin typeface="Century Schoolbook"/>
              </a:rPr>
              <a:t> Mastication or chewing is the 1</a:t>
            </a:r>
            <a:r>
              <a:rPr b="1" lang="en-US" sz="2600" spc="-1" strike="noStrike" baseline="30000">
                <a:solidFill>
                  <a:srgbClr val="575f6d"/>
                </a:solidFill>
                <a:latin typeface="Century Schoolbook"/>
              </a:rPr>
              <a:t>st</a:t>
            </a:r>
            <a:r>
              <a:rPr b="1" lang="en-US" sz="2600" spc="-1" strike="noStrike">
                <a:solidFill>
                  <a:srgbClr val="575f6d"/>
                </a:solidFill>
                <a:latin typeface="Century Schoolbook"/>
              </a:rPr>
              <a:t> mechanical process in the GI tract by which the food substance are toen or cut into small particles &amp; curched or ground into a soft bolus.</a:t>
            </a:r>
            <a:endParaRPr b="0" lang="en-US" sz="26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75f6d"/>
                </a:solidFill>
                <a:uFillTx/>
                <a:latin typeface="Century Schoolbook"/>
              </a:rPr>
              <a:t>Significance of mastication:-</a:t>
            </a:r>
            <a:r>
              <a:rPr b="1" lang="en-US" sz="2600" spc="-1" strike="noStrike">
                <a:solidFill>
                  <a:srgbClr val="575f6d"/>
                </a:solidFill>
                <a:latin typeface="Century Schoolbook"/>
              </a:rPr>
              <a:t> </a:t>
            </a:r>
            <a:endParaRPr b="0" lang="en-US" sz="26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Breakdown of food stuffs into smaller particles.</a:t>
            </a:r>
            <a:endParaRPr b="0" lang="en-US" sz="26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Mixing of salina neither food substance throughly.</a:t>
            </a:r>
            <a:endParaRPr b="0" lang="en-US" sz="26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Lubrication and moistening of dry food by saliva to that the bolus can be easily swallowed.</a:t>
            </a:r>
            <a:endParaRPr b="0" lang="en-US" sz="26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Appreciation of taste of the food.</a:t>
            </a:r>
            <a:endParaRPr b="0" lang="en-US" sz="26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5f6d"/>
                </a:solidFill>
                <a:latin typeface="Century Schoolbook"/>
              </a:rPr>
              <a:t>It the surface area of the food so, that digestive enzymes on act on a greater area.</a:t>
            </a:r>
            <a:endParaRPr b="0" lang="en-US" sz="26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2) Tunica muscularis:- is consist of a double layer of smooth muscle of which the inner sheet lies circularly and the outer sheet run longitudinally. Nerve and vascular plexuses lie between the layers. This muscular layer controls the diameter of the intestine and propels its contents towards the anus.</a:t>
            </a:r>
            <a:endParaRPr b="0" lang="en-US" sz="26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3) Tunica submucosa:- is a loose arealer connective tissue layer which contains large blood and lymphatic vessels nerves and glands in certain portions.</a:t>
            </a:r>
            <a:endParaRPr b="0" lang="en-US" sz="26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4) Tunica mucosa:- mucousa membrane consist of i) stratified squamous or single columnar epithilial layer.</a:t>
            </a:r>
            <a:endParaRPr b="0" lang="en-US" sz="26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i) Lamino propria which is a delicate areolar connective tissue layer.</a:t>
            </a:r>
            <a:endParaRPr b="0" lang="en-US" sz="26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ii) Muscularis mucosa is a thin layer of smooth muscle and forms the boundary between mucous membrane and sub mucosa.   </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Muscle involved &amp; the movements of the mastication:- </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muscle involved in mastication:-</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Masseter</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emporal</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Pterygoids</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Buccinator.</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movements involved in martication:-</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Opening &amp; closure of mouth.</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Rotational movements of jaw .</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Protraction &amp; retraction of jaw.</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Control of Mastication:-   </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action of mastication is mostly a reflex process. It is carried out  voluntarily also. The center for mastication is situated in medull and carebral cortex.</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Diglutition – </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muscles are supplied by mandibular division of 5 (trigeminal) nerve.</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553" name="Picture 3" descr="D:\My Pictures\Pictures\Amrita\Picture 016.jpg"/>
          <p:cNvPicPr/>
          <p:nvPr/>
        </p:nvPicPr>
        <p:blipFill>
          <a:blip r:embed="rId1"/>
          <a:stretch/>
        </p:blipFill>
        <p:spPr>
          <a:xfrm>
            <a:off x="304920" y="1981080"/>
            <a:ext cx="8458200" cy="4648320"/>
          </a:xfrm>
          <a:prstGeom prst="rect">
            <a:avLst/>
          </a:prstGeom>
          <a:ln w="0">
            <a:noFill/>
          </a:ln>
        </p:spPr>
      </p:pic>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DEGLUTITION:-</a:t>
            </a: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Swallowing of food is kl as degltition. It occurs in three stages:-</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ORAL OR BUCCAL STAGE:-</a:t>
            </a:r>
            <a:r>
              <a:rPr b="1" lang="en-US" sz="2800" spc="-1" strike="noStrike">
                <a:solidFill>
                  <a:srgbClr val="575f6d"/>
                </a:solidFill>
                <a:latin typeface="Century Schoolbook"/>
              </a:rPr>
              <a:t> When food enters phaynx form mouth.</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PHARYNGEAL STAGE:- </a:t>
            </a:r>
            <a:r>
              <a:rPr b="1" lang="en-US" sz="2800" spc="-1" strike="noStrike">
                <a:solidFill>
                  <a:srgbClr val="575f6d"/>
                </a:solidFill>
                <a:latin typeface="Century Schoolbook"/>
              </a:rPr>
              <a:t>When food enters esphagus from pharynx.</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ESOPHAGEAL STAGE:-</a:t>
            </a:r>
            <a:r>
              <a:rPr b="1" lang="en-US" sz="2800" spc="-1" strike="noStrike">
                <a:solidFill>
                  <a:srgbClr val="575f6d"/>
                </a:solidFill>
                <a:latin typeface="Century Schoolbook"/>
              </a:rPr>
              <a:t> When food enters stomach form esophagus.</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ORAL STAGE:-</a:t>
            </a:r>
            <a:r>
              <a:rPr b="1" lang="en-US" sz="2800" spc="-1" strike="noStrike">
                <a:solidFill>
                  <a:srgbClr val="575f6d"/>
                </a:solidFill>
                <a:latin typeface="Century Schoolbook"/>
              </a:rPr>
              <a:t> oral stage of deglution id voluntary stage. It occurs after mastication food is rolled down into a bolus y mastication . In this stage of swallowing the bolus passes through oral cavity into the phyrnx by means of sewes of actions such as :-</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food is rolled adequately on the upper surface of the tongue to from a bolus, admicture of saliva with the food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56" name="Picture 2" descr="D:\My Pictures\Pictures\Amrita\Picture 017.jpg"/>
          <p:cNvPicPr/>
          <p:nvPr/>
        </p:nvPicPr>
        <p:blipFill>
          <a:blip r:embed="rId1"/>
          <a:stretch/>
        </p:blipFill>
        <p:spPr>
          <a:xfrm>
            <a:off x="0" y="0"/>
            <a:ext cx="8967960" cy="6858000"/>
          </a:xfrm>
          <a:prstGeom prst="rect">
            <a:avLst/>
          </a:prstGeom>
          <a:ln w="0">
            <a:noFill/>
          </a:ln>
        </p:spPr>
      </p:pic>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Matter also contributes to the formation of the bolus.</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soft palate rises, the posteuoe wall of the nasophaynx also approaches towards the soft palate. Their for the masophaynx is sealed off and thus the nasal regurgitation is prevented.</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respiration is reflexly stopped.</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Utomately the bolus is pushed to the posteur part of the tongue.</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PHARYNGEAL STAGE:-</a:t>
            </a:r>
            <a:r>
              <a:rPr b="1" lang="en-US" sz="2800" spc="-1" strike="noStrike">
                <a:solidFill>
                  <a:srgbClr val="575f6d"/>
                </a:solidFill>
                <a:latin typeface="Century Schoolbook"/>
              </a:rPr>
              <a:t> In this stage the aim of the nature is to see, that the bolus enters the esophagus and hot in the respiratory tract. It should be understood that if the food enters the respiratory tract, it may lead to serve coughing/ bronchospasm/ obstruction of a bronchial tube / atelectesis or even death.</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events in the 2 stage are as follow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 By the bolus is pushed back against the epiglottis .</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b) Almost immediately, the epiglottis deflects  in transverse direction.</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c) The laryngeal opening is closed by closure of vocal chords. The harynx is elevated. The respiration in the mean time  has already stopped.</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d) The upper esophageal sphincter relaxes and the bolus enters the esophageal tube.</a:t>
            </a:r>
            <a:endParaRPr b="0" lang="en-US" sz="2800" spc="-1" strike="noStrike">
              <a:solidFill>
                <a:srgbClr val="000000"/>
              </a:solidFill>
              <a:latin typeface="Century Schoolbook"/>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ESOPHAGEAL STAGE:-</a:t>
            </a:r>
            <a:r>
              <a:rPr b="1" lang="en-US" sz="2800" spc="-1" strike="noStrike">
                <a:solidFill>
                  <a:srgbClr val="575f6d"/>
                </a:solidFill>
                <a:latin typeface="Century Schoolbook"/>
              </a:rPr>
              <a:t>                                                                                              </a:t>
            </a:r>
            <a:r>
              <a:rPr b="1" lang="en-US" sz="2800" spc="-1" strike="noStrike">
                <a:solidFill>
                  <a:srgbClr val="575f6d"/>
                </a:solidFill>
                <a:latin typeface="Century Schoolbook"/>
              </a:rPr>
              <a:t>	</a:t>
            </a:r>
            <a:r>
              <a:rPr b="1" lang="en-US" sz="2800" spc="-1" strike="noStrike">
                <a:solidFill>
                  <a:srgbClr val="575f6d"/>
                </a:solidFill>
                <a:latin typeface="Century Schoolbook"/>
              </a:rPr>
              <a:t>	</a:t>
            </a:r>
            <a:r>
              <a:rPr b="1" lang="en-US" sz="2800" spc="-1" strike="noStrike">
                <a:solidFill>
                  <a:srgbClr val="575f6d"/>
                </a:solidFill>
                <a:latin typeface="Century Schoolbook"/>
              </a:rPr>
              <a:t>	</a:t>
            </a:r>
            <a:r>
              <a:rPr b="1" lang="en-US" sz="2800" spc="-1" strike="noStrike">
                <a:solidFill>
                  <a:srgbClr val="575f6d"/>
                </a:solidFill>
                <a:latin typeface="Century Schoolbook"/>
              </a:rPr>
              <a:t>	</a:t>
            </a:r>
            <a:r>
              <a:rPr b="1" lang="en-US" sz="2800" spc="-1" strike="noStrike">
                <a:solidFill>
                  <a:srgbClr val="575f6d"/>
                </a:solidFill>
                <a:latin typeface="Century Schoolbook"/>
              </a:rPr>
              <a:t>	</a:t>
            </a:r>
            <a:r>
              <a:rPr b="1" lang="en-US" sz="2800" spc="-1" strike="noStrike">
                <a:solidFill>
                  <a:srgbClr val="575f6d"/>
                </a:solidFill>
                <a:latin typeface="Century Schoolbook"/>
              </a:rPr>
              <a:t>it is also an involuntary stage. The function of esophagus is to transport the bolus form the pharynx to the stomach. The movement of esophagus are specially organized for this function and the movements are called peristaltic waves.</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        </a:t>
            </a:r>
            <a:r>
              <a:rPr b="1" lang="en-US" sz="2800" spc="-1" strike="noStrike">
                <a:solidFill>
                  <a:srgbClr val="575f6d"/>
                </a:solidFill>
                <a:latin typeface="Century Schoolbook"/>
              </a:rPr>
              <a:t>peristalsis means a wave of contraction followed by the wave of relaxation of muscle fibers of GIT, which travel in abnormal direction (aurry from mouth). By this type  of movements, the contents are propelled down along the GI tract. When bolus reaches the esophagus, the peristaltic waves are initiated, which propel the bolus into the stomach.</a:t>
            </a:r>
            <a:endParaRPr b="0" lang="en-US" sz="2800" spc="-1" strike="noStrike">
              <a:solidFill>
                <a:srgbClr val="000000"/>
              </a:solidFill>
              <a:latin typeface="Century Schoolbook"/>
            </a:endParaRPr>
          </a:p>
          <a:p>
            <a:pPr>
              <a:lnSpc>
                <a:spcPct val="7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esophagus has two of aphincteus, upper &amp; lower.</a:t>
            </a:r>
            <a:endParaRPr b="0" lang="en-US" sz="2800" spc="-1" strike="noStrike">
              <a:solidFill>
                <a:srgbClr val="000000"/>
              </a:solidFill>
              <a:latin typeface="Century Schoolbook"/>
            </a:endParaRPr>
          </a:p>
          <a:p>
            <a:pPr>
              <a:lnSpc>
                <a:spcPct val="7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upper ( situated at the upper end of esophagus.)</a:t>
            </a:r>
            <a:endParaRPr b="0" lang="en-US" sz="2800" spc="-1" strike="noStrike">
              <a:solidFill>
                <a:srgbClr val="000000"/>
              </a:solidFill>
              <a:latin typeface="Century Schoolbook"/>
            </a:endParaRPr>
          </a:p>
          <a:p>
            <a:pPr>
              <a:lnSpc>
                <a:spcPct val="7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haneer ( situated near where the esophagus opens                             </a:t>
            </a:r>
            <a:r>
              <a:rPr b="1" lang="en-US" sz="2800" spc="-1" strike="noStrike">
                <a:solidFill>
                  <a:srgbClr val="575f6d"/>
                </a:solidFill>
                <a:latin typeface="Century Schoolbook"/>
              </a:rPr>
              <a:t>	</a:t>
            </a:r>
            <a:r>
              <a:rPr b="1" lang="en-US" sz="2800" spc="-1" strike="noStrike">
                <a:solidFill>
                  <a:srgbClr val="575f6d"/>
                </a:solidFill>
                <a:latin typeface="Century Schoolbook"/>
              </a:rPr>
              <a:t>into the stomach.</a:t>
            </a:r>
            <a:endParaRPr b="0" lang="en-US" sz="2800" spc="-1" strike="noStrike">
              <a:solidFill>
                <a:srgbClr val="000000"/>
              </a:solidFill>
              <a:latin typeface="Century Schoolbook"/>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Both the aphanites are normally closed. At the end of the 2</a:t>
            </a:r>
            <a:r>
              <a:rPr b="1" lang="en-US" sz="2800" spc="-1" strike="noStrike" baseline="30000">
                <a:solidFill>
                  <a:srgbClr val="575f6d"/>
                </a:solidFill>
                <a:latin typeface="Century Schoolbook"/>
              </a:rPr>
              <a:t>nd</a:t>
            </a:r>
            <a:r>
              <a:rPr b="1" lang="en-US" sz="2800" spc="-1" strike="noStrike">
                <a:solidFill>
                  <a:srgbClr val="575f6d"/>
                </a:solidFill>
                <a:latin typeface="Century Schoolbook"/>
              </a:rPr>
              <a:t> stage of deglutition, the upper essonite made up of voluntary it opens and the bolus </a:t>
            </a:r>
            <a:endParaRPr b="0" lang="en-US" sz="2800" spc="-1" strike="noStrike">
              <a:solidFill>
                <a:srgbClr val="000000"/>
              </a:solidFill>
              <a:latin typeface="Century Schoolbook"/>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endParaRPr b="0" lang="en-US" sz="2800" spc="-1" strike="noStrike">
              <a:solidFill>
                <a:srgbClr val="000000"/>
              </a:solidFill>
              <a:latin typeface="Century Schoolbook"/>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Enters the esophagus. After the bolus has passed , the sphincter closed again now a wave of peristalsis is initiated at the upper end of he esophagus and travels downward. Propelling the bolus downwards. This downward movements of the food is helped considerably by the subject is in an erect position as the bolus reaches the lounge esophagus splincter (les) relaxes and food enters the stomach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when the bolus is has passed out and enters the stomach the LES consteids  again. This makes the end of the deglutition.</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Role of lower esophagus sphincter :-</a:t>
            </a:r>
            <a:r>
              <a:rPr b="1" lang="en-US" sz="2800" spc="-1" strike="noStrike">
                <a:solidFill>
                  <a:srgbClr val="575f6d"/>
                </a:solidFill>
                <a:latin typeface="Century Schoolbook"/>
              </a:rPr>
              <a:t> Because of the presence of this sphincter, the gastric contents, which is highly acidic, cannot enters the esophagus to causes th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damages of the esophagus  mucosa. Normally when there is no peustalsis (i.e. no act of swallowing), the LES is constricted. During peustalsis the LES relaxes.</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is constriction and relaxation of LES is nudiated by:-</a:t>
            </a:r>
            <a:endParaRPr b="0" lang="en-US" sz="2800" spc="-1" strike="noStrike">
              <a:solidFill>
                <a:srgbClr val="000000"/>
              </a:solidFill>
              <a:latin typeface="Century Schoolbook"/>
            </a:endParaRPr>
          </a:p>
          <a:p>
            <a:pPr>
              <a:lnSpc>
                <a:spcPct val="9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neural as necllas </a:t>
            </a:r>
            <a:endParaRPr b="0" lang="en-US" sz="2800" spc="-1" strike="noStrike">
              <a:solidFill>
                <a:srgbClr val="000000"/>
              </a:solidFill>
              <a:latin typeface="Century Schoolbook"/>
            </a:endParaRPr>
          </a:p>
          <a:p>
            <a:pPr>
              <a:lnSpc>
                <a:spcPct val="9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GI Hormonal and other endocrinal mechanism.</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The neural mechanism is via both the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 Extrinsic = ( Parasympathetic and sympathetic ANS.)</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b). Intrinsic ( aurbach’s and nussner’s ENS) plexa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 </a:t>
            </a:r>
            <a:r>
              <a:rPr b="1" lang="en-US" sz="2800" spc="-1" strike="noStrike" u="sng">
                <a:solidFill>
                  <a:srgbClr val="575f6d"/>
                </a:solidFill>
                <a:uFillTx/>
                <a:latin typeface="Century Schoolbook"/>
              </a:rPr>
              <a:t>MOVEMENTOF STOMACH:-</a:t>
            </a:r>
            <a:r>
              <a:rPr b="1" lang="en-US" sz="2800" spc="-1" strike="noStrike">
                <a:solidFill>
                  <a:srgbClr val="575f6d"/>
                </a:solidFill>
                <a:latin typeface="Century Schoolbook"/>
              </a:rPr>
              <a:t> Movements of the stomach are obviously affected by the muscles of the stomach.</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a:solidFill>
                  <a:srgbClr val="575f6d"/>
                </a:solidFill>
                <a:latin typeface="Century Schoolbook"/>
              </a:rPr>
              <a:t>For describing the movement of the stomach has been described to consist to mainly of 2 parts:-</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i). On ORAD part consisting of the upper region of the stomach and the other.</a:t>
            </a:r>
            <a:endParaRPr b="0" lang="en-US" sz="28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ii). CAUDAD part consisting of the lower half of the stomach. Musculature of the orad part is comparatively thin, the orad part acts chiefly as the reservior of the food (i.e. food is lodged here &amp; this food stage some time, may be up to 1 hr. before moving – this is not seen in the coudad part of the stomach), the phenomenon of receptive Relaxation is seen in the orad part of the stomach. Also, the gastric peristalsis are either not seen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3" name="Picture 3" descr="\\Cyber-02\My Documents\03-PS121-3~Digestive-System-Posters.jpg"/>
          <p:cNvPicPr/>
          <p:nvPr/>
        </p:nvPicPr>
        <p:blipFill>
          <a:blip r:embed="rId1"/>
          <a:stretch/>
        </p:blipFill>
        <p:spPr>
          <a:xfrm>
            <a:off x="66600" y="36360"/>
            <a:ext cx="9077400" cy="682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0" y="0"/>
            <a:ext cx="9144000" cy="6858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lood supply:-</a:t>
            </a:r>
            <a:endParaRPr b="0" lang="en-US" sz="32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e gastr-intestinal circulation is the largest systemic regional vascular bed. In resting conditions only one-third of the cardiac output flows through the abdominal organs. Anatomically, the gastrointestinal circulation includes includes all the blood vessels supllying the salivary glands, mouth, phrynx, oesophagus, stomach, etc. However, the term gastro-intestinal circulation usually refers to vessels lying in the abdomen- often called the splanchinic circulation.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r very faint in the orad part. </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re are three major movements are those which causes:-</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eptive relaxation </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xing buaking of gastric content.</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stric emptying</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MC also develops.</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Receptive relaxation is produced by altering tone of the orad part of the stomach. The other two are produced by combination of gastric peustalsis &amp; closure / opening of pyloic orific.</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eptive relaxation: Relaxation of the upper portion of the stomach when bolus enters the stomach form esophagus is called Receptive  Relaxation. It involveas the fundus and upper part of the body of stomach.</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txBox="1"/>
          <p:nvPr/>
        </p:nvSpPr>
        <p:spPr>
          <a:xfrm>
            <a:off x="0" y="0"/>
            <a:ext cx="9144000" cy="6858000"/>
          </a:xfrm>
          <a:prstGeom prst="rect">
            <a:avLst/>
          </a:prstGeom>
          <a:noFill/>
          <a:ln w="0">
            <a:noFill/>
          </a:ln>
        </p:spPr>
        <p:txBody>
          <a:bodyPr anchor="t">
            <a:normAutofit fontScale="99000"/>
          </a:bodyPr>
          <a:p>
            <a:pPr marL="361080" indent="-2527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t’s significance is to accommodate the food without much increase in pressure inside the stomach.</a:t>
            </a:r>
            <a:endParaRPr b="0" lang="en-US" sz="2800" spc="-1" strike="noStrike">
              <a:solidFill>
                <a:srgbClr val="000000"/>
              </a:solidFill>
              <a:latin typeface="Century Schoolbook"/>
            </a:endParaRPr>
          </a:p>
          <a:p>
            <a:pPr marL="361080" indent="-252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a:t>
            </a:r>
            <a:r>
              <a:rPr b="1" lang="en-US" sz="2800" spc="-1" strike="noStrike" u="sng">
                <a:solidFill>
                  <a:srgbClr val="000000"/>
                </a:solidFill>
                <a:uFillTx/>
                <a:latin typeface="Century Schoolbook"/>
              </a:rPr>
              <a:t>Mixing- charming burking :-</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361080" indent="-252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Mixing &amp; burking of the food in the stomach is achieved by a combination of gastric pecistalsis + closure of pyloeic oifice hehich result in testropulsion, violent shaking of the gastric content (=churning)- ultimately.</a:t>
            </a:r>
            <a:endParaRPr b="0" lang="en-US" sz="2800" spc="-1" strike="noStrike">
              <a:solidFill>
                <a:srgbClr val="000000"/>
              </a:solidFill>
              <a:latin typeface="Century Schoolbook"/>
            </a:endParaRPr>
          </a:p>
          <a:p>
            <a:pPr marL="361080" indent="-252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i).</a:t>
            </a:r>
            <a:r>
              <a:rPr b="0" lang="en-US" sz="2800" spc="-1" strike="noStrike">
                <a:solidFill>
                  <a:srgbClr val="000000"/>
                </a:solidFill>
                <a:latin typeface="Century Schoolbook"/>
              </a:rPr>
              <a:t> The coause particles of food are broken down.</a:t>
            </a:r>
            <a:endParaRPr b="0" lang="en-US" sz="2800" spc="-1" strike="noStrike">
              <a:solidFill>
                <a:srgbClr val="000000"/>
              </a:solidFill>
              <a:latin typeface="Century Schoolbook"/>
            </a:endParaRPr>
          </a:p>
          <a:p>
            <a:pPr marL="361080" indent="-252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ii). </a:t>
            </a:r>
            <a:r>
              <a:rPr b="0" lang="en-US" sz="2800" spc="-1" strike="noStrike">
                <a:solidFill>
                  <a:srgbClr val="000000"/>
                </a:solidFill>
                <a:latin typeface="Century Schoolbook"/>
              </a:rPr>
              <a:t>Gastric juice mixes up with the food so that the AMP  (acid pepsin mixture ) can weak properly. Also the gastric puistalsis  (sometimes called, digestive gastric puistalsis )results in ejecting ( technically , called  squirting , squirt = to eject a liquid in thin spurt), gastric chyme , small at the time , into the deodenu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ASTRIC PUISTALSIS:-</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When the food enters the stomach peristalsis contraction or peristaltic have appears with a frequency of 3/min. it starts from the lower part of the body stomach passes through the pylous till the pyloic splincter.</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itially, the concentration appears as a slight indentation on the greater and the lesser currature and the travels towards pyloms. The concentration become deeper while traveling. Finally it ends with the construction of pylonic sprints some of the lest disappear before reaching the sphincter. Each perispaltsis leave take about 1 minute to travel form the point of origin to the point of ending . This type of perispaltic construction is called digestive perispaltsi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ecause it is responsible for the grinding of food particle and mixing with then with gastric juice for digestic activity.</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ASTRIC EMPTING:-</a:t>
            </a:r>
            <a:r>
              <a:rPr b="0" lang="en-US" sz="2800" spc="-1" strike="noStrike">
                <a:solidFill>
                  <a:srgbClr val="000000"/>
                </a:solidFill>
                <a:latin typeface="Century Schoolbook"/>
              </a:rPr>
              <a:t> After a full mixed mill stomach is emptied about 3 hr. although variations are of common occurrence during this period digestion take place. The digested food in the form of chyme. This empited into the intestine slowely in the intestine with the help of perispaltic constantine it takes about 3-4 hours for empenting of chym form the stomach into the intestine this slow empting is necessary to facilitated the final digestion and almost about 80% absorption of the coordinated food material </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normal gastric emptied is the coordinated action of GI tract and nervas system.</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txBox="1"/>
          <p:nvPr/>
        </p:nvSpPr>
        <p:spPr>
          <a:xfrm>
            <a:off x="0" y="0"/>
            <a:ext cx="9144000" cy="6858000"/>
          </a:xfrm>
          <a:prstGeom prst="rect">
            <a:avLst/>
          </a:prstGeom>
          <a:noFill/>
          <a:ln w="0">
            <a:noFill/>
          </a:ln>
        </p:spPr>
        <p:txBody>
          <a:bodyPr anchor="t">
            <a:norm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perispaltic  wave in the body and part of the stomach and simentenious relextation of pyloric sthincter are neccesary for the normal gastric emptied </a:t>
            </a:r>
            <a:endParaRPr b="0" lang="en-US" sz="2800" spc="-1" strike="noStrike">
              <a:solidFill>
                <a:srgbClr val="000000"/>
              </a:solidFill>
              <a:latin typeface="Century Schoolbook"/>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Regulation of gastirc emptied:-</a:t>
            </a:r>
            <a:r>
              <a:rPr b="0" lang="en-US" sz="2800" spc="-1" strike="noStrike">
                <a:solidFill>
                  <a:srgbClr val="000000"/>
                </a:solidFill>
                <a:latin typeface="Century Schoolbook"/>
              </a:rPr>
              <a:t> the empting of stomach stops mainly due to motility. The motility of stomach is caused by both nerves and hormonal factor </a:t>
            </a:r>
            <a:endParaRPr b="0" lang="en-US" sz="2800" spc="-1" strike="noStrike">
              <a:solidFill>
                <a:srgbClr val="000000"/>
              </a:solidFill>
              <a:latin typeface="Century Schoolbook"/>
            </a:endParaRPr>
          </a:p>
          <a:p>
            <a:pPr marL="533520" indent="-53352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lang="en-US" sz="2800" spc="-1" strike="noStrike" u="sng">
                <a:solidFill>
                  <a:srgbClr val="000000"/>
                </a:solidFill>
                <a:uFillTx/>
                <a:latin typeface="Century Schoolbook"/>
              </a:rPr>
              <a:t>Nerves factor’s:- </a:t>
            </a:r>
            <a:r>
              <a:rPr b="0" lang="en-US" sz="2800" spc="-1" strike="noStrike">
                <a:solidFill>
                  <a:srgbClr val="000000"/>
                </a:solidFill>
                <a:latin typeface="Century Schoolbook"/>
              </a:rPr>
              <a:t> the nerves factor which regulate the empting of stomach is the enterogestric reflex</a:t>
            </a:r>
            <a:endParaRPr b="0" lang="en-US" sz="2800" spc="-1" strike="noStrike">
              <a:solidFill>
                <a:srgbClr val="000000"/>
              </a:solidFill>
              <a:latin typeface="Century Schoolbook"/>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enterogestic reflex- when the chyme inter the intestine the gastric muscle is inhibitent the motility stops leading to arrest of gastric empting. This is called entrogastric reflex .this reflex evolves the vegus nerv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txBox="1"/>
          <p:nvPr/>
        </p:nvSpPr>
        <p:spPr>
          <a:xfrm>
            <a:off x="0" y="0"/>
            <a:ext cx="9144000" cy="6858000"/>
          </a:xfrm>
          <a:prstGeom prst="rect">
            <a:avLst/>
          </a:prstGeom>
          <a:noFill/>
          <a:ln w="0">
            <a:noFill/>
          </a:ln>
        </p:spPr>
        <p:txBody>
          <a:bodyPr anchor="t">
            <a:normAutofit/>
          </a:bodyPr>
          <a:p>
            <a:pPr marL="609480" indent="-609480">
              <a:lnSpc>
                <a:spcPct val="8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ormonal Factor:-</a:t>
            </a:r>
            <a:r>
              <a:rPr b="0" lang="en-US" sz="2800" spc="-1" strike="noStrike">
                <a:solidFill>
                  <a:srgbClr val="000000"/>
                </a:solidFill>
                <a:latin typeface="Century Schoolbook"/>
              </a:rPr>
              <a:t> when an acid chyme inters the duodenum the duodenal mucosa is releases some hormone which enter the stomach through blood and inhibit the motility of stomach.</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which inhibit the motility and empting of stomach are;-</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P, GIP Secretin,  CCK, SOMATOSTATIN PEPTIDE YY, </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APPLIED ANATOMY:-</a:t>
            </a:r>
            <a:endParaRPr b="0" lang="en-US" sz="2800" spc="-1" strike="noStrike">
              <a:solidFill>
                <a:srgbClr val="000000"/>
              </a:solidFill>
              <a:latin typeface="Century Schoolbook"/>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a:t>
            </a:r>
            <a:r>
              <a:rPr b="1" lang="en-US" sz="2800" spc="-1" strike="noStrike" u="sng">
                <a:solidFill>
                  <a:srgbClr val="000000"/>
                </a:solidFill>
                <a:uFillTx/>
                <a:latin typeface="Century Schoolbook"/>
              </a:rPr>
              <a:t>Gastric Dumping Syndrom</a:t>
            </a:r>
            <a:r>
              <a:rPr b="0" lang="en-US" sz="2800" spc="-1" strike="noStrike">
                <a:solidFill>
                  <a:srgbClr val="000000"/>
                </a:solidFill>
                <a:latin typeface="Century Schoolbook"/>
              </a:rPr>
              <a:t>:- gastric dumpingsyndrom or rapid gastric empting is characterize by serious of abdominal symptom. It is due to rapid of quick dumping of undigested food form stomach into the jejunum. It occurs in patient following partial removal of stomach (gastuctomy) or gastric bypass surgery Gastroenterostomy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txBox="1"/>
          <p:nvPr/>
        </p:nvSpPr>
        <p:spPr>
          <a:xfrm>
            <a:off x="0" y="0"/>
            <a:ext cx="9144000" cy="6858000"/>
          </a:xfrm>
          <a:prstGeom prst="rect">
            <a:avLst/>
          </a:prstGeom>
          <a:noFill/>
          <a:ln w="0">
            <a:noFill/>
          </a:ln>
        </p:spPr>
        <p:txBody>
          <a:bodyPr anchor="t">
            <a:normAutofit/>
          </a:bodyPr>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The rapid gastric empting may begin immediately after taking meals (urely dumping) or about few hours after taking meal (late dumping). </a:t>
            </a:r>
            <a:endParaRPr b="0" lang="en-US" sz="26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Schoolbook"/>
              </a:rPr>
              <a:t>CAUSUES </a:t>
            </a:r>
            <a:endParaRPr b="0" lang="en-US" sz="2600" spc="-1" strike="noStrike">
              <a:solidFill>
                <a:srgbClr val="000000"/>
              </a:solidFill>
              <a:latin typeface="Century Schoolbook"/>
            </a:endParaRPr>
          </a:p>
          <a:p>
            <a:pPr marL="660240" indent="-660240">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Schoolbook"/>
              </a:rPr>
              <a:t>GASTRIC SURGERY</a:t>
            </a:r>
            <a:endParaRPr b="0" lang="en-US" sz="2600" spc="-1" strike="noStrike">
              <a:solidFill>
                <a:srgbClr val="000000"/>
              </a:solidFill>
              <a:latin typeface="Century Schoolbook"/>
            </a:endParaRPr>
          </a:p>
          <a:p>
            <a:pPr marL="660240" indent="-660240">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Schoolbook"/>
              </a:rPr>
              <a:t>ZELLINGER :- </a:t>
            </a:r>
            <a:r>
              <a:rPr b="0" lang="en-US" sz="2600" spc="-1" strike="noStrike">
                <a:solidFill>
                  <a:srgbClr val="000000"/>
                </a:solidFill>
                <a:latin typeface="Century Schoolbook"/>
              </a:rPr>
              <a:t> E Uison syndrome ( rare disader due to sever peptic ulcer and gastria secreting tumor in pancreas.)</a:t>
            </a:r>
            <a:endParaRPr b="0" lang="en-US" sz="26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1" lang="en-US" sz="2600" spc="-1" strike="noStrike" u="sng">
                <a:solidFill>
                  <a:srgbClr val="000000"/>
                </a:solidFill>
                <a:uFillTx/>
                <a:latin typeface="Century Schoolbook"/>
              </a:rPr>
              <a:t>Symptoms of Early dumping:- </a:t>
            </a:r>
            <a:endParaRPr b="0" lang="en-US" sz="26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Nausea and vomiting. </a:t>
            </a:r>
            <a:endParaRPr b="0" lang="en-US" sz="26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Bloating feeling of abdominal fullness &amp; tightness.</a:t>
            </a:r>
            <a:endParaRPr b="0" lang="en-US" sz="26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Diarrhea.</a:t>
            </a:r>
            <a:endParaRPr b="0" lang="en-US" sz="26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Sweating and weakness.</a:t>
            </a:r>
            <a:endParaRPr b="0" lang="en-US" sz="26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Fatigue &amp; dizziness.</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txBox="1"/>
          <p:nvPr/>
        </p:nvSpPr>
        <p:spPr>
          <a:xfrm>
            <a:off x="0" y="0"/>
            <a:ext cx="9144000" cy="6858000"/>
          </a:xfrm>
          <a:prstGeom prst="rect">
            <a:avLst/>
          </a:prstGeom>
          <a:noFill/>
          <a:ln w="0">
            <a:noFill/>
          </a:ln>
        </p:spPr>
        <p:txBody>
          <a:bodyPr anchor="t">
            <a:normAutofit/>
          </a:bodyPr>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ystem of Late Dumping:-</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ypoglycemia.</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weating &amp; weakness.</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zziness.</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astroparesis:-</a:t>
            </a:r>
            <a:r>
              <a:rPr b="0" lang="en-US" sz="2800" spc="-1" strike="noStrike">
                <a:solidFill>
                  <a:srgbClr val="000000"/>
                </a:solidFill>
                <a:latin typeface="Century Schoolbook"/>
              </a:rPr>
              <a:t>  it is a symptomatic cheonic disorder characterized by delayed gastric empting. It is usually occurs as a secondary disorder precipitated by a primary causes.</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CAUSES:-</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abetes mellitus.</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ast- surgical compticatious.</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otility disorder.</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stric infectio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txBox="1"/>
          <p:nvPr/>
        </p:nvSpPr>
        <p:spPr>
          <a:xfrm>
            <a:off x="0" y="0"/>
            <a:ext cx="9144000" cy="6858000"/>
          </a:xfrm>
          <a:prstGeom prst="rect">
            <a:avLst/>
          </a:prstGeom>
          <a:noFill/>
          <a:ln w="0">
            <a:noFill/>
          </a:ln>
        </p:spPr>
        <p:txBody>
          <a:bodyPr anchor="t">
            <a:normAutofit/>
          </a:bodyPr>
          <a:p>
            <a:pPr marL="660240" indent="-660240">
              <a:lnSpc>
                <a:spcPct val="90000"/>
              </a:lnSpc>
              <a:spcBef>
                <a:spcPts val="601"/>
              </a:spcBef>
              <a:buClr>
                <a:srgbClr val="fe8637"/>
              </a:buClr>
              <a:buSzPct val="70000"/>
              <a:buFont typeface="Century Schoolbook"/>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tabolic and endocrine disorder.</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ecrease in myenteric gugta.</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ymptoms:-</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arly satiety (feeling full with small quantity of food).</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ausea.</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omiting </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Upper abdominal dis-comfort.</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loating sensation (in abdominal volume with feeling of abdominal fullness and tightness).</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txBox="1"/>
          <p:nvPr/>
        </p:nvSpPr>
        <p:spPr>
          <a:xfrm>
            <a:off x="0" y="0"/>
            <a:ext cx="9144000" cy="6858000"/>
          </a:xfrm>
          <a:prstGeom prst="rect">
            <a:avLst/>
          </a:prstGeom>
          <a:noFill/>
          <a:ln w="0">
            <a:noFill/>
          </a:ln>
        </p:spPr>
        <p:txBody>
          <a:bodyPr anchor="t">
            <a:normAutofit/>
          </a:bodyPr>
          <a:p>
            <a:pPr marL="660240" indent="-6602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VOMITING</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Vomiting or emensis is the abnormac emptying  of stomach and upper part of the intestine though exophagus and mouth.</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Vomiting is the foeceful expulsion of gastric content to the ecterior vis oral unity”.</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Vomiting can be:-</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xample -1 may vomit after justing poison- poision in the stomach ( before absoption) ejectd.</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jurious to health.</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lang="en-US" sz="2800" spc="-1" strike="noStrike" u="sng">
                <a:solidFill>
                  <a:srgbClr val="000000"/>
                </a:solidFill>
                <a:uFillTx/>
                <a:latin typeface="Century Schoolbook"/>
              </a:rPr>
              <a:t>Cause of vomiting:-</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presence of irretating contents in the GI tarct.</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chanical stimulation of ferring.</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egnency</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0"/>
            <a:ext cx="9144000" cy="6858000"/>
          </a:xfrm>
          <a:prstGeom prst="rect">
            <a:avLst/>
          </a:prstGeom>
          <a:noFill/>
          <a:ln w="0">
            <a:noFill/>
          </a:ln>
        </p:spPr>
        <p:txBody>
          <a:bodyPr anchor="t">
            <a:normAutofit/>
          </a:bodyPr>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liver receives one third of its of its blood through the hepatic artery and two-thirds through the portal vein.</a:t>
            </a:r>
            <a:endParaRPr b="0" lang="en-US" sz="24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ppriximately 80% of the blood flow to the alimentary canal goes to the mucos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txBox="1"/>
          <p:nvPr/>
        </p:nvSpPr>
        <p:spPr>
          <a:xfrm>
            <a:off x="0" y="0"/>
            <a:ext cx="9144000" cy="6858000"/>
          </a:xfrm>
          <a:prstGeom prst="rect">
            <a:avLst/>
          </a:prstGeom>
          <a:noFill/>
          <a:ln w="0">
            <a:noFill/>
          </a:ln>
        </p:spPr>
        <p:txBody>
          <a:bodyPr anchor="t">
            <a:normAutofit/>
          </a:bodyPr>
          <a:p>
            <a:pPr marL="660240" indent="-660240">
              <a:spcBef>
                <a:spcPts val="601"/>
              </a:spcBef>
              <a:buClr>
                <a:srgbClr val="fe8637"/>
              </a:buClr>
              <a:buSzPct val="70000"/>
              <a:buFont typeface="Century Schoolbook"/>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ccess alcohol.</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on sitting site order or taste.</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bnormal stimulation of sensary sector in other organ like kindney, heart, semicircular cannal or litums.</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rugs like antiboitic, opiats etc.</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ny GI disorder.</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tabolic disorder like cabohydrate starvation and ketosis (pregincy), urania kitosacid acid, diebitic and hyper calcimia .</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Mechanism of Vomiting:- </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Nausia:- </a:t>
            </a:r>
            <a:r>
              <a:rPr b="0" lang="en-US" sz="2800" spc="-1" strike="noStrike">
                <a:solidFill>
                  <a:srgbClr val="000000"/>
                </a:solidFill>
                <a:latin typeface="Century Schoolbook"/>
              </a:rPr>
              <a:t> it is a pleasant which induces the deseire  for vomiting. It is characteized by large amout of seliva contaning more amout of mucu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txBox="1"/>
          <p:nvPr/>
        </p:nvSpPr>
        <p:spPr>
          <a:xfrm>
            <a:off x="0" y="0"/>
            <a:ext cx="9144000" cy="6858000"/>
          </a:xfrm>
          <a:prstGeom prst="rect">
            <a:avLst/>
          </a:prstGeom>
          <a:noFill/>
          <a:ln w="0">
            <a:noFill/>
          </a:ln>
        </p:spPr>
        <p:txBody>
          <a:bodyPr anchor="t">
            <a:normAutofit/>
          </a:bodyPr>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Retchin:-</a:t>
            </a:r>
            <a:r>
              <a:rPr b="0" lang="en-US" sz="2800" spc="-1" strike="noStrike">
                <a:solidFill>
                  <a:srgbClr val="000000"/>
                </a:solidFill>
                <a:latin typeface="Century Schoolbook"/>
              </a:rPr>
              <a:t> strong in voluntary movement in GI tract start even before actual vomiting. This condition is called retching (by two vomits) and vomiting occur after few minute after this.</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Acts of Vomiting:-</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     beginning of antiperistelsis which runs form ilum toward mouth through the intestine. Pushing the intestinal content into stomach within few minute.</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eep infection flowed temporary conception of breathing.</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losure of glottis .</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Upward &amp; forward movement of larynx &amp; hyoid bone.</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levation of soft palat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txBox="1"/>
          <p:nvPr/>
        </p:nvSpPr>
        <p:spPr>
          <a:xfrm>
            <a:off x="0" y="0"/>
            <a:ext cx="9144000" cy="6858000"/>
          </a:xfrm>
          <a:prstGeom prst="rect">
            <a:avLst/>
          </a:prstGeom>
          <a:noFill/>
          <a:ln w="0">
            <a:noFill/>
          </a:ln>
        </p:spPr>
        <p:txBody>
          <a:bodyPr anchor="t">
            <a:normAutofit/>
          </a:bodyPr>
          <a:p>
            <a:pPr marL="660240" indent="-660240">
              <a:lnSpc>
                <a:spcPct val="80000"/>
              </a:lnSpc>
              <a:spcBef>
                <a:spcPts val="601"/>
              </a:spcBef>
              <a:buClr>
                <a:srgbClr val="fe8637"/>
              </a:buClr>
              <a:buSzPct val="70000"/>
              <a:buFont typeface="Century Schoolbook"/>
              <a:buAutoNum type="roman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ntraction of diaphragm and abdominal muscle with a characterize juk resulting in elevation of intra abdominal pressure.</a:t>
            </a:r>
            <a:endParaRPr b="0" lang="en-US" sz="2800" spc="-1" strike="noStrike">
              <a:solidFill>
                <a:srgbClr val="000000"/>
              </a:solidFill>
              <a:latin typeface="Century Schoolbook"/>
            </a:endParaRPr>
          </a:p>
          <a:p>
            <a:pPr marL="660240" indent="-660240">
              <a:lnSpc>
                <a:spcPct val="80000"/>
              </a:lnSpc>
              <a:spcBef>
                <a:spcPts val="601"/>
              </a:spcBef>
              <a:buClr>
                <a:srgbClr val="fe8637"/>
              </a:buClr>
              <a:buSzPct val="70000"/>
              <a:buFont typeface="Century Schoolbook"/>
              <a:buAutoNum type="roman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mpression of the stomach between diaphragm and abdominals wall leading to site in intragastic pressure.</a:t>
            </a:r>
            <a:endParaRPr b="0" lang="en-US" sz="2800" spc="-1" strike="noStrike">
              <a:solidFill>
                <a:srgbClr val="000000"/>
              </a:solidFill>
              <a:latin typeface="Century Schoolbook"/>
            </a:endParaRPr>
          </a:p>
          <a:p>
            <a:pPr marL="660240" indent="-660240">
              <a:lnSpc>
                <a:spcPct val="80000"/>
              </a:lnSpc>
              <a:spcBef>
                <a:spcPts val="601"/>
              </a:spcBef>
              <a:buClr>
                <a:srgbClr val="fe8637"/>
              </a:buClr>
              <a:buSzPct val="70000"/>
              <a:buFont typeface="Century Schoolbook"/>
              <a:buAutoNum type="roman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imultaneous relaxation of lower esophageal sphincter. Esophageal  &amp; upper esophageal  sphincter.</a:t>
            </a:r>
            <a:endParaRPr b="0" lang="en-US" sz="2800" spc="-1" strike="noStrike">
              <a:solidFill>
                <a:srgbClr val="000000"/>
              </a:solidFill>
              <a:latin typeface="Century Schoolbook"/>
            </a:endParaRPr>
          </a:p>
          <a:p>
            <a:pPr marL="660240" indent="-660240">
              <a:lnSpc>
                <a:spcPct val="80000"/>
              </a:lnSpc>
              <a:spcBef>
                <a:spcPts val="601"/>
              </a:spcBef>
              <a:buClr>
                <a:srgbClr val="fe8637"/>
              </a:buClr>
              <a:buSzPct val="70000"/>
              <a:buFont typeface="Century Schoolbook"/>
              <a:buAutoNum type="roman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orceful expulsion of gastric contents ( vomitus) through esophagus pharynx  &amp; mouth.</a:t>
            </a:r>
            <a:endParaRPr b="0" lang="en-US" sz="2800" spc="-1" strike="noStrike">
              <a:solidFill>
                <a:srgbClr val="000000"/>
              </a:solidFill>
              <a:latin typeface="Century Schoolbook"/>
            </a:endParaRPr>
          </a:p>
          <a:p>
            <a:pPr marL="660240" indent="-660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ll the movement during the act of vomiting throw the vomits to the external through mouth. Some of the movements play important roles by preventing the entry vomits through other outes and thereby  presents the adverse effected of-</a:t>
            </a:r>
            <a:endParaRPr b="0" lang="en-US" sz="2800" spc="-1" strike="noStrike">
              <a:solidFill>
                <a:srgbClr val="000000"/>
              </a:solidFill>
              <a:latin typeface="Century Schoolbook"/>
            </a:endParaRPr>
          </a:p>
          <a:p>
            <a:pPr marL="660240" indent="-66024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txBox="1"/>
          <p:nvPr/>
        </p:nvSpPr>
        <p:spPr>
          <a:xfrm>
            <a:off x="0" y="0"/>
            <a:ext cx="9144000" cy="6858000"/>
          </a:xfrm>
          <a:prstGeom prst="rect">
            <a:avLst/>
          </a:prstGeom>
          <a:noFill/>
          <a:ln w="0">
            <a:noFill/>
          </a:ln>
        </p:spPr>
        <p:txBody>
          <a:bodyPr anchor="t">
            <a:normAutofit/>
          </a:bodyPr>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vomits. On many structure.</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uch movements are-</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losure of glottis and cessation of breathing prevents empty of vomitus into the lungs.</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levation of soft palate prevents entry of vomitus into the nesoparyx.</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aiynx &amp; hpid bone more upward &amp; forward and are placed in the dilatation of throat which allows free exit of vomitus.</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ig no.42-2 movements of small intestine. Page no 250 .</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txBox="1"/>
          <p:nvPr/>
        </p:nvSpPr>
        <p:spPr>
          <a:xfrm>
            <a:off x="0" y="0"/>
            <a:ext cx="9144000" cy="6858000"/>
          </a:xfrm>
          <a:prstGeom prst="rect">
            <a:avLst/>
          </a:prstGeom>
          <a:noFill/>
          <a:ln w="0">
            <a:noFill/>
          </a:ln>
        </p:spPr>
        <p:txBody>
          <a:bodyPr anchor="t">
            <a:normAutofit/>
          </a:bodyPr>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Movements of small intestine:-</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movements of small intestine are essential for mixing the chyme with digestive juices, propulsion of food and absorption.</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Four types of movements occur is small intestine:-</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xing movements.</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gmentation </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ndular movements.</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pulsive movements.</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ristaltic movements</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ristaltic rush.</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ustalsis in fasting- rigrating motor complex.</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ovements of villi.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txBox="1"/>
          <p:nvPr/>
        </p:nvSpPr>
        <p:spPr>
          <a:xfrm>
            <a:off x="0" y="0"/>
            <a:ext cx="9144000" cy="6858000"/>
          </a:xfrm>
          <a:prstGeom prst="rect">
            <a:avLst/>
          </a:prstGeom>
          <a:noFill/>
          <a:ln w="0">
            <a:noFill/>
          </a:ln>
        </p:spPr>
        <p:txBody>
          <a:bodyPr anchor="t">
            <a:normAutofit/>
          </a:bodyPr>
          <a:p>
            <a:pPr marL="660240" indent="-6602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Schoolbook"/>
              </a:rPr>
              <a:t>Mixing movements:- </a:t>
            </a:r>
            <a:r>
              <a:rPr b="0" lang="en-US" sz="2600" spc="-1" strike="noStrike">
                <a:solidFill>
                  <a:srgbClr val="000000"/>
                </a:solidFill>
                <a:latin typeface="Century Schoolbook"/>
              </a:rPr>
              <a:t> The mixing movements of the small intestine are responsible for proper mixing of chyme with digestive juices like pancuatic juice like pancautic juice, bite and intestine are segmentation &amp;  pendular movements.</a:t>
            </a:r>
            <a:endParaRPr b="0" lang="en-US" sz="26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Schoolbook"/>
              </a:rPr>
              <a:t>Segmentation contraction:-  </a:t>
            </a:r>
            <a:r>
              <a:rPr b="0" lang="en-US" sz="2600" spc="-1" strike="noStrike">
                <a:solidFill>
                  <a:srgbClr val="000000"/>
                </a:solidFill>
                <a:latin typeface="Century Schoolbook"/>
              </a:rPr>
              <a:t> The segmentation contraction are the common type of movements of small intestine, which occur regularly or irregularly but in a rhythmic faclnion. So, these movements are also called rhythmic segmentation contractions.</a:t>
            </a:r>
            <a:endParaRPr b="0" lang="en-US" sz="26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                                 </a:t>
            </a:r>
            <a:r>
              <a:rPr b="0" lang="en-US" sz="2600" spc="-1" strike="noStrike">
                <a:solidFill>
                  <a:srgbClr val="000000"/>
                </a:solidFill>
                <a:latin typeface="Century Schoolbook"/>
              </a:rPr>
              <a:t>The contraction occur at regularly spaced intervals along a section of intestiene the segments of intestine involved in each contraction is</a:t>
            </a:r>
            <a:endParaRPr b="0" lang="en-US" sz="26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Fig 43-2 movementsof small into samnlilngum page no 250.</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txBox="1"/>
          <p:nvPr/>
        </p:nvSpPr>
        <p:spPr>
          <a:xfrm>
            <a:off x="0" y="0"/>
            <a:ext cx="9144000" cy="6858000"/>
          </a:xfrm>
          <a:prstGeom prst="rect">
            <a:avLst/>
          </a:prstGeom>
          <a:noFill/>
          <a:ln w="0">
            <a:noFill/>
          </a:ln>
        </p:spPr>
        <p:txBody>
          <a:bodyPr anchor="t">
            <a:normAutofit/>
          </a:bodyPr>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bout 1 to 5 cm. long. The segment if intestine in between the contracted segments are relaxed. These alternate segments of contraction and relaxation give appearance of rings resembling the chain of sa usages.</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fter sometime, the contracted segments are relaxed segments are contracted. Therefore, the segmentation contractions chop the chyme many times. This help in mixing of chyme neither  digestive juices.</a:t>
            </a:r>
            <a:endParaRPr b="0" lang="en-US" sz="28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Pendular movements:-</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Small patients of intestine (loops) sweep forward and backward or upward and downward resembling the movements  of pendulum in clock and this movements is called the pendulum in clock and this movements  is called the pendular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txBox="1"/>
          <p:nvPr/>
        </p:nvSpPr>
        <p:spPr>
          <a:xfrm>
            <a:off x="0" y="0"/>
            <a:ext cx="9144000" cy="6858000"/>
          </a:xfrm>
          <a:prstGeom prst="rect">
            <a:avLst/>
          </a:prstGeom>
          <a:noFill/>
          <a:ln w="0">
            <a:noFill/>
          </a:ln>
        </p:spPr>
        <p:txBody>
          <a:bodyPr anchor="t">
            <a:normAutofit/>
          </a:bodyPr>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ovements. This movements also help in mixing of chyme  with digestive juices.</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 </a:t>
            </a:r>
            <a:r>
              <a:rPr b="1" lang="en-US" sz="2800" spc="-1" strike="noStrike" u="sng">
                <a:solidFill>
                  <a:srgbClr val="000000"/>
                </a:solidFill>
                <a:uFillTx/>
                <a:latin typeface="Century Schoolbook"/>
              </a:rPr>
              <a:t> Pendular movements:-</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Small proteins of intestine (loops) swap forward and backward or upward and downward resembling the movements of pendulum in clock and this movements is called the pendular movements. This movements also helps in mixing of chyme with digestive juices.</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a:t>
            </a:r>
            <a:r>
              <a:rPr b="1" lang="en-US" sz="2800" spc="-1" strike="noStrike" u="sng">
                <a:solidFill>
                  <a:srgbClr val="000000"/>
                </a:solidFill>
                <a:uFillTx/>
                <a:latin typeface="Century Schoolbook"/>
              </a:rPr>
              <a:t>Propulsine movements:- </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t is defined as the wave of contradiction followed by wave of relaxation, which travels in aboral direction. The simulation of smooth muscles of intestine initiates the peristlsis. It travels from point of smooth muscles of intestine initiate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The peristalsis. It travel from point of stimulation in both directions. But, under normal conditions the progress of contraction in an oral direction is inhibitated quikly and the contractions disappear. Only the contraction that travel in an aboral direction perrists. The peistaltic contraction and travel towards and end at a velocity of 1 to 2 cm./sec. the contraction are always weak and usually diappear after traveling for few bentimeters. Because of this, the average movements  of chyme through smell intestine is very slow and the average movements of chyme through small intestine is very slow and the average velocity of movements of the chym through small intestine is very slow and the average velocity of movements of chyme  less than 1cm/sec. so the chyme required several hours to travel from duodenum to the end of small intestine.</a:t>
            </a:r>
            <a:endParaRPr b="0" lang="en-US" sz="26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the peristaltic waves in small intestine </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0" y="0"/>
            <a:ext cx="9144000" cy="6858000"/>
          </a:xfrm>
          <a:prstGeom prst="rect">
            <a:avLst/>
          </a:prstGeom>
          <a:noFill/>
          <a:ln w="0">
            <a:noFill/>
          </a:ln>
        </p:spPr>
        <p:txBody>
          <a:bodyPr anchor="t">
            <a:normAutofit/>
          </a:bodyPr>
          <a:p>
            <a:pPr marL="660240" indent="-660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crease to a great extended immediately after a meal. This is because of gastroenteric reflex which is initiated by the distention  of stomach. The impulses are transmitted from the stomach along the wall of the intestine via muentric plexus.</a:t>
            </a:r>
            <a:endParaRPr b="0" lang="en-US" sz="2800" spc="-1" strike="noStrike">
              <a:solidFill>
                <a:srgbClr val="000000"/>
              </a:solidFill>
              <a:latin typeface="Century Schoolbook"/>
            </a:endParaRPr>
          </a:p>
          <a:p>
            <a:pPr marL="660240" indent="-660240">
              <a:lnSpc>
                <a:spcPct val="80000"/>
              </a:lnSpc>
              <a:spcBef>
                <a:spcPts val="601"/>
              </a:spcBef>
              <a:buClr>
                <a:srgbClr val="fe8637"/>
              </a:buClr>
              <a:buSzPct val="70000"/>
              <a:buFont typeface="Century Schoolbook"/>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Peristsaltic Rush:- </a:t>
            </a:r>
            <a:r>
              <a:rPr b="0" lang="en-US" sz="2800" spc="-1" strike="noStrike">
                <a:solidFill>
                  <a:srgbClr val="000000"/>
                </a:solidFill>
                <a:latin typeface="Century Schoolbook"/>
              </a:rPr>
              <a:t> sometime, the small intestine shows a powerful peistaltic contraction. It is caused by excessive irritation of intestine of the intestine. This type of powerful contraction begains in duodenum and passes through entire length of small intestine and reaches the ileocacal valve within few minutes. This  is called “;eristsaltic ruth” or rush waves. The peristaltic such sweeps the contents of intestine into the colon. Thus, it relieves the small intestine off either irritants or excessive distention.</a:t>
            </a:r>
            <a:endParaRPr b="0" lang="en-US" sz="2800" spc="-1" strike="noStrike">
              <a:solidFill>
                <a:srgbClr val="000000"/>
              </a:solidFill>
              <a:latin typeface="Century Schoolbook"/>
            </a:endParaRPr>
          </a:p>
          <a:p>
            <a:pPr marL="660240" indent="-660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3.  Peristalsis in fasting- migrating motor complex:-</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NERVE SUPPLY</a:t>
            </a:r>
            <a:endParaRPr b="0" lang="en-US" sz="3200" spc="-1" strike="noStrike">
              <a:solidFill>
                <a:srgbClr val="575f6d"/>
              </a:solidFill>
              <a:latin typeface="Century Schoolbook"/>
            </a:endParaRPr>
          </a:p>
        </p:txBody>
      </p:sp>
      <p:sp>
        <p:nvSpPr>
          <p:cNvPr id="376" name=""/>
          <p:cNvSpPr txBox="1"/>
          <p:nvPr/>
        </p:nvSpPr>
        <p:spPr>
          <a:xfrm>
            <a:off x="0" y="609120"/>
            <a:ext cx="9144000" cy="6248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nerve supply consist of:- </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n intrinsic part:- which is represented by nerve and cells fibres originating and located in the Intestinal wall itself.</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n intrinsic portion:- which is represented by vogal fibres of the symphatic. The intrinsic nueral structures supply the smooth muscularature of the alimenatary canal except the striated muscle fibres of the mouth, the upper part of the oesophagus and sphincter the intrinsic mechanism consist of a series of plexuses which are composed of small groups of nerve cells and bundle of nerve fibres. Two intramural plexus are located in a narrow spac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is a type of perustsaltic contaction which occurs in stomach and small intestine during the long period of fasting for several hours after the meals. It is different from the regular peristalsis because a large portion of stomach or intestine is involved in the contraction. This type of movements occurs once in every 11/2 to 2 hours. </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t starts as a modulately active peristalsis in the body of stomach and runs through the entire length of small intestine. It travels at a velocity of 6 to12 cm./min. thus,it takes about 10 min to reach the colon after taking origin form stomach. The migrating motor complex sweeps the exceeds digestive secutions into the colon and prevents the accumuation of thesecution in stomach and intestin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4. </a:t>
            </a:r>
            <a:r>
              <a:rPr b="1" lang="en-US" sz="2800" spc="-1" strike="noStrike" u="sng">
                <a:solidFill>
                  <a:srgbClr val="000000"/>
                </a:solidFill>
                <a:uFillTx/>
                <a:latin typeface="Century Schoolbook"/>
              </a:rPr>
              <a:t>Movements of villi:-</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                              </a:t>
            </a:r>
            <a:r>
              <a:rPr b="0" lang="en-US" sz="2800" spc="-1" strike="noStrike">
                <a:solidFill>
                  <a:srgbClr val="000000"/>
                </a:solidFill>
                <a:latin typeface="Century Schoolbook"/>
              </a:rPr>
              <a:t>the intestine ville also simultaneous  during intestine movement. It is because of the extension of stomach muscle fibres of the intestinal wall into the villi.</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movements of villi are shorting and elongertion which occur alternatively and help in empting lymph from the central lacteal into the lymphatic system. The surface area of villi is sed during elongation. This helps absorption of digested food particles form the lumen of intestine.</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Movement of villi are caused by local nervous reflexes which are initiated by the presence of chyme in small intestine. The hormone secreted form small intestine mucosa called “villikinin” is also believed to play an important role in increasing the movements of vill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PPLIED OF ANATOMY:-</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Obstruction of small intestine can develop due to</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chanical</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on- mechanical Pathologies</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1) Mechanical ones can be due to such caused like:-</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band of adhension over the Intestine</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umor from outside obliterating the small Intestine and so on </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 such mechanical obstuction the part proximal to the obliterated one develops violent peristaltic Movements which causes Intestine which (colichly pain abdomen)</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Non mechanical obstruction are called ileus. An ileus may b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txBox="1"/>
          <p:nvPr/>
        </p:nvSpPr>
        <p:spPr>
          <a:xfrm>
            <a:off x="0" y="0"/>
            <a:ext cx="9144000" cy="6858000"/>
          </a:xfrm>
          <a:prstGeom prst="rect">
            <a:avLst/>
          </a:prstGeom>
          <a:noFill/>
          <a:ln w="0">
            <a:noFill/>
          </a:ln>
        </p:spPr>
        <p:txBody>
          <a:bodyPr anchor="t">
            <a:normAutofit/>
          </a:bodyPr>
          <a:p>
            <a:pPr marL="660240" indent="-660240">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aralytic or adynamic (paralytic ileus) when tone of small Intestine is diminished/ lost</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may be Spastic (dynamic)</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MOVEMENT OF LARGE GUT/INTESTINE:-</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Usually the large Intestine shows slurggish movements stills these movements are important for mixing propulsive and absorption function </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Large Intestine Shows two types of Movement:-</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xing Movements:- Segmentation Contraction.</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pulsine Movements:- Mass Peuistalsis</a:t>
            </a: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 Segmentation Contraction:- Large circular constructions which appear in the colon are called mixing.</a:t>
            </a: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60240" indent="-6602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txBox="1"/>
          <p:nvPr/>
        </p:nvSpPr>
        <p:spPr>
          <a:xfrm>
            <a:off x="0" y="0"/>
            <a:ext cx="9144000" cy="68580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mixing segmentation contraction. The contractions occur at regular distance in colon. The length of the position of colon in volved in each contraction is nearly about 2.5cm.</a:t>
            </a:r>
            <a:endParaRPr b="0" lang="en-US" sz="26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2) Mass Position:- </a:t>
            </a:r>
            <a:endParaRPr b="0" lang="en-US" sz="26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Mass peustalses or mass movement propal the faces from colon to wards Anus. Usdually this movement occurs only a few times every day. The duration of the mass movement is about 10 minutes in the morning before or after break fast. This is because of the Neurogemic and parasying athetis stimulation.</a:t>
            </a:r>
            <a:endParaRPr b="0" lang="en-US" sz="2600" spc="-1" strike="noStrike">
              <a:solidFill>
                <a:srgbClr val="000000"/>
              </a:solidFill>
              <a:latin typeface="Century Schoolbook"/>
            </a:endParaRPr>
          </a:p>
          <a:p>
            <a:pPr marL="365040" indent="-255600">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DEFECATION:-</a:t>
            </a:r>
            <a:endParaRPr b="0" lang="en-US" sz="2600" spc="-1" strike="noStrike">
              <a:solidFill>
                <a:srgbClr val="000000"/>
              </a:solidFill>
              <a:latin typeface="Century Schoolbook"/>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Voiding of faces is k/as defection fecesis formed in large Intestine and stared in signed colon By the influence out through out the anus. </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is is prevented by Tonic Construction of and sphintein the Absence of the stimulu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75f6d"/>
                </a:solidFill>
                <a:uFillTx/>
                <a:latin typeface="Century Schoolbook"/>
              </a:rPr>
              <a:t>LARGE INTESTINE</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large intestine is the terminal position of the GI tract and is devided into four principal regions. The overall function of the large intestine are the completion of absorption, the production of certain vitamins, the formation of faces and the expulsion of faces from the body.</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                           </a:t>
            </a:r>
            <a:r>
              <a:rPr b="1" lang="en-US" sz="2800" spc="-1" strike="noStrike" u="sng">
                <a:solidFill>
                  <a:srgbClr val="575f6d"/>
                </a:solidFill>
                <a:uFillTx/>
                <a:latin typeface="Century Schoolbook"/>
              </a:rPr>
              <a:t>Anatomy of the large Intestine:</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he LI which is also known as color consist of the following parts:</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Caecum with Appenix</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scending colon</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Transverse colon</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Desending colo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subTitle"/>
          </p:nvPr>
        </p:nvSpPr>
        <p:spPr>
          <a:xfrm>
            <a:off x="0" y="0"/>
            <a:ext cx="9144000" cy="6858000"/>
          </a:xfrm>
          <a:prstGeom prst="rect">
            <a:avLst/>
          </a:prstGeom>
          <a:noFill/>
          <a:ln w="0">
            <a:noFill/>
          </a:ln>
        </p:spPr>
        <p:txBody>
          <a:bodyPr anchor="t">
            <a:noAutofit/>
          </a:bodyPr>
          <a:p>
            <a:pPr marL="660240" indent="-660240">
              <a:lnSpc>
                <a:spcPct val="7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Between longitudinal and circular muscle layer s of the intestine wall myenteric plexus of Auerbach and.</a:t>
            </a:r>
            <a:endParaRPr b="0" lang="en-US" sz="2600" spc="-1" strike="noStrike">
              <a:solidFill>
                <a:srgbClr val="000000"/>
              </a:solidFill>
              <a:latin typeface="Century Schoolbook"/>
            </a:endParaRPr>
          </a:p>
          <a:p>
            <a:pPr marL="660240" indent="-660240">
              <a:lnSpc>
                <a:spcPct val="7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Between circular muscle layer and subcusa (submucosa plexus of meissner). This intrinsic networks of nerves within the walls of the digestive tube is responsible for the spontaneous movements of the intestinal tract even after the extrinsic network has been cut. The extrinsic nerve  supply acts to tegulater the intrinsic neuromuscular mechanism that determines the movements of the digestive tube. However, the intrinsic neural mechanism is modulated by extrinsic nerve supplied by both of the autonomic nervous system. The sympathatic fibres which are branches of the splanchnic nerves. The sympathatic also appear to supply blood vessels within the intestinal wall. The preganglionic parasympathatic fibres are derived from:- </a:t>
            </a:r>
            <a:endParaRPr b="0" lang="en-US" sz="2600" spc="-1" strike="noStrike">
              <a:solidFill>
                <a:srgbClr val="000000"/>
              </a:solidFill>
              <a:latin typeface="Century Schoolbook"/>
            </a:endParaRPr>
          </a:p>
          <a:p>
            <a:pPr marL="660240" indent="-660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                                                                                       </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90000"/>
              </a:lnSpc>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The cells in the medulla oblongata and </a:t>
            </a:r>
            <a:endParaRPr b="0" lang="en-US" sz="26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The sacral segments of the spinal cord. These fibres originating from the medulla oblangata are mainly parts of vagal ones and supply muscles of trhe stomach, small intestine and upper half of large intestine. The pregangliolic fibres from the sacral spinal cord reach the pelvic ganglion by way of the pelvic nerves and postganglionic fibres supply the lower half of the LI end the rectum. The internal anal sphincter is innervated by efferent and somatic nerve fibres. The Sympathatic fibres are excitatory for ileocaecal and internal anal sphincters and smooth muscle fibres of the muscularies mucosa throughout the whole GI canal and help to increase the number of fields in the tract are inhibitory for the remaining musculative.</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e parasympathetic system is excitatory for all the musculature except the sphinters where it is usually inhibitory. The two nervous system are antagonistic but so far as chyne is concerned.</a:t>
            </a:r>
            <a:endParaRPr b="0" lang="en-US" sz="24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Function of the Digestive System</a:t>
            </a:r>
            <a:r>
              <a:rPr b="1" lang="en-US" sz="2400" spc="-1" strike="noStrike">
                <a:solidFill>
                  <a:srgbClr val="000000"/>
                </a:solidFill>
                <a:latin typeface="Century Schoolbook"/>
              </a:rPr>
              <a:t>:-</a:t>
            </a:r>
            <a:endParaRPr b="0" lang="en-US" sz="24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e human digestive system serves the following function:-</a:t>
            </a:r>
            <a:endParaRPr b="0" lang="en-US" sz="24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gestion of the food</a:t>
            </a:r>
            <a:endParaRPr b="0" lang="en-US" sz="24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gestion of food.</a:t>
            </a:r>
            <a:endParaRPr b="0" lang="en-US" sz="24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retion of various digestive juices.</a:t>
            </a:r>
            <a:endParaRPr b="0" lang="en-US" sz="24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sorption of water, salts, vit, and end products of food digestion.</a:t>
            </a:r>
            <a:endParaRPr b="0" lang="en-US" sz="24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cretion heavy metals, toxins certain alkaloids etc.</a:t>
            </a:r>
            <a:endParaRPr b="0" lang="en-US" sz="24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vement certain types of movements are present in the whole of the GIT the functions of there movements are to facilitate admixture of food with digestive juices to propel food onwards to help blood and lymphatic circulation through the intestinal wall. Dafaecation also due to the movement of large intestin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0" y="0"/>
            <a:ext cx="9144000" cy="6858000"/>
          </a:xfrm>
          <a:prstGeom prst="rect">
            <a:avLst/>
          </a:prstGeom>
          <a:noFill/>
          <a:ln w="0">
            <a:noFill/>
          </a:ln>
        </p:spPr>
        <p:txBody>
          <a:bodyPr anchor="t">
            <a:normAutofit fontScale="99000"/>
          </a:bodyPr>
          <a:p>
            <a:pPr marL="361080" indent="-2527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Mouth </a:t>
            </a:r>
            <a:endParaRPr b="0" lang="en-US" sz="2800" spc="-1" strike="noStrike">
              <a:solidFill>
                <a:srgbClr val="000000"/>
              </a:solidFill>
              <a:latin typeface="Century Schoolbook"/>
            </a:endParaRPr>
          </a:p>
          <a:p>
            <a:pPr marL="361080" indent="-252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mouth also referred to as the oral or buccal cavity is formed by the cheeks hard and soft palates and tongue forming the lat walls of the oral cavity are the cheeks.</a:t>
            </a:r>
            <a:endParaRPr b="0" lang="en-US" sz="2800" spc="-1" strike="noStrike">
              <a:solidFill>
                <a:srgbClr val="000000"/>
              </a:solidFill>
              <a:latin typeface="Century Schoolbook"/>
            </a:endParaRPr>
          </a:p>
          <a:p>
            <a:pPr marL="361080" indent="-252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n lips or labia are fleshy folds surrounding the opening of the mouth. The inner surface of each lip is attached to its corresponding gums by mid line fold of mucous membrane called labium franulum.</a:t>
            </a:r>
            <a:endParaRPr b="0" lang="en-US" sz="2800" spc="-1" strike="noStrike">
              <a:solidFill>
                <a:srgbClr val="000000"/>
              </a:solidFill>
              <a:latin typeface="Century Schoolbook"/>
            </a:endParaRPr>
          </a:p>
          <a:p>
            <a:pPr marL="361080" indent="-252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During chewing contraction of the Buccinator muscle in the cheeks and orbicularies oris muscles in the lips help keep food between the upper and lower teeth &amp; also help in the speech.</a:t>
            </a:r>
            <a:endParaRPr b="0" lang="en-US" sz="2800" spc="-1" strike="noStrike">
              <a:solidFill>
                <a:srgbClr val="000000"/>
              </a:solidFill>
              <a:latin typeface="Century Schoolbook"/>
            </a:endParaRPr>
          </a:p>
          <a:p>
            <a:pPr marL="361080" indent="-252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vestibule of the oral cavity is a space bounded by the cheeks &amp; lips &amp; internally by the gums &amp; teeth. The oral cavity proper is a space that extension from the gums and teeth to the fauce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2" name="Picture 2" descr="D:\My Pictures\Pictures\Amrita\Picture.jpg"/>
          <p:cNvPicPr/>
          <p:nvPr/>
        </p:nvPicPr>
        <p:blipFill>
          <a:blip r:embed="rId1"/>
          <a:stretch/>
        </p:blipFill>
        <p:spPr>
          <a:xfrm>
            <a:off x="42840" y="0"/>
            <a:ext cx="9101160" cy="681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subTitle"/>
          </p:nvPr>
        </p:nvSpPr>
        <p:spPr>
          <a:xfrm>
            <a:off x="0" y="-360"/>
            <a:ext cx="9144000" cy="67057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opening between the oral cavity &amp; pharynx. The hard palate the ant portion of the roof of the mouth is formed by the maxillae &amp; palatine bones, is covered by mucous membrane. &amp; forms a bony partition between the oral cavity &amp; pharynx. The hard plate the ant portion of the roof of the mouth is formed by the maxillae &amp; palatine bones is covered by mucous membrane, &amp; forms partition between the oral and nasal cavities.</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soft palate which forms the post portion of the roof of the mouth, is an arched muscular portion between the oropharynx and nasopharynx.</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Hanging from the free border of the soft palate is a conical muscular process called the uvula. lateral to base of uvula are two muscular folds than run down the lateral sides of the soft palat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0" y="0"/>
            <a:ext cx="9144000" cy="6858000"/>
          </a:xfrm>
          <a:prstGeom prst="rect">
            <a:avLst/>
          </a:prstGeom>
          <a:noFill/>
          <a:ln w="0">
            <a:noFill/>
          </a:ln>
        </p:spPr>
        <p:txBody>
          <a:bodyPr anchor="t">
            <a:normAutofit fontScale="97000"/>
          </a:bodyPr>
          <a:p>
            <a:pPr marL="353880" indent="-24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ntiriorly palatoglossial arch extends to the side of the base of the tongue. Postiorly palatopharageal arch extends to the side of the pharynx.</a:t>
            </a:r>
            <a:endParaRPr b="0" lang="en-US" sz="2800" spc="-1" strike="noStrike">
              <a:solidFill>
                <a:srgbClr val="000000"/>
              </a:solidFill>
              <a:latin typeface="Century Schoolbook"/>
            </a:endParaRPr>
          </a:p>
          <a:p>
            <a:pPr marL="353880" indent="-24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palatine tonsils are situated between the arches &amp; the lingual are situated at the base of tongue. At the posterior border of soft palate the mouth open into the oropharynx through the fauces.</a:t>
            </a:r>
            <a:endParaRPr b="0" lang="en-US" sz="2800" spc="-1" strike="noStrike">
              <a:solidFill>
                <a:srgbClr val="000000"/>
              </a:solidFill>
              <a:latin typeface="Century Schoolbook"/>
            </a:endParaRPr>
          </a:p>
          <a:p>
            <a:pPr marL="353880" indent="-24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eneral physiologically action of the mouth</a:t>
            </a:r>
            <a:r>
              <a:rPr b="1" lang="en-US" sz="2800" spc="-1" strike="noStrike">
                <a:solidFill>
                  <a:srgbClr val="000000"/>
                </a:solidFill>
                <a:latin typeface="Century Schoolbook"/>
              </a:rPr>
              <a:t>.</a:t>
            </a:r>
            <a:endParaRPr b="0" lang="en-US" sz="2800" spc="-1" strike="noStrike">
              <a:solidFill>
                <a:srgbClr val="000000"/>
              </a:solidFill>
              <a:latin typeface="Century Schoolbook"/>
            </a:endParaRPr>
          </a:p>
          <a:p>
            <a:pPr marL="353880" indent="-24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opening in the mouth through which food enters the body. Even before a person takes on initial bite of food the sensation provided by sight smell &amp; even imagination of appetizing food prompts the salivary glands under the tongue to secret saliva. This prepares the body for the meal to come.</a:t>
            </a:r>
            <a:endParaRPr b="0" lang="en-US" sz="2800" spc="-1" strike="noStrike">
              <a:solidFill>
                <a:srgbClr val="000000"/>
              </a:solidFill>
              <a:latin typeface="Century Schoolbook"/>
            </a:endParaRPr>
          </a:p>
          <a:p>
            <a:pPr marL="353880" indent="-24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1) INTRODUCTION OF G.I. TRACT.</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unc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natomical considera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istological structure.</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lood supply.</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erve supply.</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Different Organs Involved in Process of Diges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outh.</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roduc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eneral Physiological, ac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alivary Glands.</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pllied Physiology.</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6" name="Picture 2" descr="D:\My Pictures\Pictures\Amrita\Picture 015.jpg"/>
          <p:cNvPicPr/>
          <p:nvPr/>
        </p:nvPicPr>
        <p:blipFill>
          <a:blip r:embed="rId1"/>
          <a:stretch/>
        </p:blipFill>
        <p:spPr>
          <a:xfrm>
            <a:off x="-87480" y="0"/>
            <a:ext cx="92314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s the teeth grind the food into smaller bits saliva moistens it for easier swallowing. A digestive enzyme in the saliva c/a amylose breaks down carbohydrate (sugar &amp; starch) muscle movement in the tongue &amp; mouth provide the swallowing necessary to push the food into the throat (pharynx). This is a passage for food and air that s abut 5 inches long (12.7cm). A flexible flap of tissue called the epiglottis reflexively closes over the wind pipe during swallowing to prevent choking &amp; to prevent food from entering the tongue.</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alivary Glands:-</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 salivary is any cell or organ that releases  a secretion called saliva to the oral cavity. The main function of saliva is to keep the mucous membrane of the mouth &amp; pharynx moist &amp; cleans the mouth &amp; teeth.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When food enters the mouth secretion  of saliva       &amp; it lubricates and begins chemical breakdown of food. The mucous membrne of mouth &amp; and tongue contains many salivery glands that open directly or indirectly via short ducts to the oral cavity. This glands includes lapial, buccal &amp; palatal glands in the lips, cheeks &amp; palates respectively &amp; lingular glands in the tongue all of which make a small contribution to saliva.</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however most saliva is secreted by the major salivery glands which lie beyond the oral mucosa. There are 3 pairs of major salivery glands. They are as under:-</a:t>
            </a:r>
            <a:endParaRPr b="0" lang="en-US" sz="2800" spc="-1" strike="noStrike">
              <a:solidFill>
                <a:srgbClr val="000000"/>
              </a:solidFill>
              <a:latin typeface="Century Schoolbook"/>
            </a:endParaRPr>
          </a:p>
          <a:p>
            <a:pPr marL="365040" indent="-255600">
              <a:lnSpc>
                <a:spcPct val="9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arotid gland </a:t>
            </a:r>
            <a:endParaRPr b="0" lang="en-US" sz="2800" spc="-1" strike="noStrike">
              <a:solidFill>
                <a:srgbClr val="000000"/>
              </a:solidFill>
              <a:latin typeface="Century Schoolbook"/>
            </a:endParaRPr>
          </a:p>
          <a:p>
            <a:pPr marL="365040" indent="-255600">
              <a:lnSpc>
                <a:spcPct val="9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ubmedibular </a:t>
            </a:r>
            <a:endParaRPr b="0" lang="en-US" sz="2800" spc="-1" strike="noStrike">
              <a:solidFill>
                <a:srgbClr val="000000"/>
              </a:solidFill>
              <a:latin typeface="Century Schoolbook"/>
            </a:endParaRPr>
          </a:p>
          <a:p>
            <a:pPr marL="365040" indent="-255600">
              <a:lnSpc>
                <a:spcPct val="9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ublingual</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0" y="0"/>
            <a:ext cx="9144000" cy="6858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ituation:- </a:t>
            </a:r>
            <a:r>
              <a:rPr b="0" lang="en-US" sz="2800" spc="-1" strike="noStrike">
                <a:solidFill>
                  <a:srgbClr val="000000"/>
                </a:solidFill>
                <a:latin typeface="Century Schoolbook"/>
              </a:rPr>
              <a:t>The parotidg. are located inf &amp; ant to the ears between the skin &amp;messater muscle. Each gland about 20-30gm in adults secretion from this glands are emptied into the oral cavity by stenson’s duct. This is opens inside cheek.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ubmedibular gland</a:t>
            </a:r>
            <a:r>
              <a:rPr b="0" lang="en-US" sz="2800" spc="-1" strike="noStrike">
                <a:solidFill>
                  <a:srgbClr val="000000"/>
                </a:solidFill>
                <a:latin typeface="Century Schoolbook"/>
              </a:rPr>
              <a:t>:- are found beneath the base of the tongue in part of the floor of the mouth. Each gland weight about 8-10 gm. Saliva from this gland empitit into the oral cavity by Wharton’s duct which is about 90 mm long.</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sublingual gland are sup to submendi glands. This gland are smallest situated in mucous at the floor of the mouth. Each gland weight bout 2-3 gm. Saliva from this gland is poured into 5-15 small ducts called Ductus of ravinu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is duct open on small papilae beneath the tongue among this duct one is longer called Barthalin’s duct which drains the ant part of the glan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ere is some adjustm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Compos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ixed saliva contain 99.57, water &amp; 5% organic or inorganic substances. A part from these, gases are also found in sliv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000000"/>
                </a:solidFill>
                <a:uFillTx/>
                <a:latin typeface="Century Schoolbook"/>
              </a:rPr>
              <a:t>Organic sub</a:t>
            </a:r>
            <a:r>
              <a:rPr b="0" lang="en-US" sz="2400" spc="-1" strike="noStrike">
                <a:solidFill>
                  <a:srgbClr val="000000"/>
                </a:solidFill>
                <a:latin typeface="Century Schoolbook"/>
              </a:rPr>
              <a:t>:- 1) Salivary proteins-Mucin &amp; Albumi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Salivary enzymes – Amylose, Maltose, Lysozyme, phosphatas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 Blood group components- Antigen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 Free amino acid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 Non protien nitrogens substances like urea, uric acid, creatinine, xanthine &amp; hypoxanthi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Glucose is normally absent in saliva however in diabetic patients, glocose is found in sliv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0" y="-360"/>
            <a:ext cx="9144000" cy="7010280"/>
          </a:xfrm>
          <a:prstGeom prst="rect">
            <a:avLst/>
          </a:prstGeom>
          <a:noFill/>
          <a:ln w="0">
            <a:noFill/>
          </a:ln>
        </p:spPr>
        <p:txBody>
          <a:bodyPr anchor="t">
            <a:normAutofit fontScale="84000"/>
          </a:bodyPr>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Inorganic sub:- </a:t>
            </a:r>
            <a:r>
              <a:rPr b="0" lang="en-US" sz="2800" spc="-1" strike="noStrike">
                <a:solidFill>
                  <a:srgbClr val="000000"/>
                </a:solidFill>
                <a:latin typeface="Century Schoolbook"/>
              </a:rPr>
              <a:t>1) Sodium (Na) 2) ca 3) k </a:t>
            </a: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4) Bicarbonates 5) Bromide 6) chloride   7) flouride</a:t>
            </a: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ses present in saliva:-1) O2       2)  Co2   3)  N2</a:t>
            </a: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unctions of saliva:-</a:t>
            </a: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aliva perform following function:-</a:t>
            </a:r>
            <a:endParaRPr b="0" lang="en-US" sz="2800" spc="-1" strike="noStrike">
              <a:solidFill>
                <a:srgbClr val="000000"/>
              </a:solidFill>
              <a:latin typeface="Century Schoolbook"/>
            </a:endParaRPr>
          </a:p>
          <a:p>
            <a:pPr marL="447840" indent="-44784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epration of food for swallowing:- As soon as food enters the mouth, saliva moistens &amp; dissolves it. The mucous membrane  of mouth is also moistened by saliva &amp; thus facilitates chewing. By the movement of the tongue, the moistened &amp; masticated food is rolled into the  bolus. The mucin of saliva moistens &amp; lubricates the a bolus &amp; facilitates the swallowing.</a:t>
            </a:r>
            <a:endParaRPr b="0" lang="en-US" sz="2800" spc="-1" strike="noStrike">
              <a:solidFill>
                <a:srgbClr val="000000"/>
              </a:solidFill>
              <a:latin typeface="Century Schoolbook"/>
            </a:endParaRPr>
          </a:p>
          <a:p>
            <a:pPr marL="447840" indent="-44784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Appreciation of taste:- Taste is a chemical sensation saliva by its solvent action dissolves the solid substance, so that these dissolved substances can stimulate the taste bud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Digestive function:- Salivary amylase on cooked or bolied starch &amp; convert it into maltase. Though starch digestion start in the mouth major part of it occurs in the stomach because the food stays only for a short time in the mouth.</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optimum PH necessary for the activation of salivary amylase is 6 . The salivary amylase can’t act on cellulose. The enzyme maltase is present only traces in human saliva it convert maltose into glucos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0" y="0"/>
            <a:ext cx="9144000" cy="6858000"/>
          </a:xfrm>
          <a:prstGeom prst="rect">
            <a:avLst/>
          </a:prstGeom>
          <a:noFill/>
          <a:ln w="0">
            <a:noFill/>
          </a:ln>
        </p:spPr>
        <p:txBody>
          <a:bodyPr anchor="t">
            <a:normAutofit/>
          </a:bodyPr>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4) Cleansing and protective function:- Due to the constant secretion of saliva the mouth and teeth are rinsed and kept free from food debris and foreign particles. In this way saliva prevent growth of bacteria by removing materials which may serve as culture media for the growth of bacteria lysozyme of saliva kills so many bacteria like staphylococcus, streptococcus.</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5) Role in speech:- By moistening and lubricating the soft parts of mouth and lips, saliva helps in speech. If the mouth is dry, articulation and pronounciation become difficult.</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6) Excretory function:- Many substances both organic and inorganic are excreted in saliva.It excrete substances like mercury, potassium, iodide, lead. In some pathological condition , saliva excretes some substances like urea in nephritis and calcium hyperparathyroidism.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0" y="0"/>
            <a:ext cx="9144000" cy="6858000"/>
          </a:xfrm>
          <a:prstGeom prst="rect">
            <a:avLst/>
          </a:prstGeom>
          <a:noFill/>
          <a:ln w="0">
            <a:noFill/>
          </a:ln>
        </p:spPr>
        <p:txBody>
          <a:bodyPr anchor="t">
            <a:normAutofit fontScale="98000"/>
          </a:bodyPr>
          <a:p>
            <a:pPr marL="35748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7) Regulation of body temperature.:- In dogs and cattle excessive dripping of saliva during panting helps in loss of heat. But in human being, saliva does not take part in temperature regulation.</a:t>
            </a:r>
            <a:endParaRPr b="0" lang="en-US" sz="2800" spc="-1" strike="noStrike">
              <a:solidFill>
                <a:srgbClr val="000000"/>
              </a:solidFill>
              <a:latin typeface="Century Schoolbook"/>
            </a:endParaRPr>
          </a:p>
          <a:p>
            <a:pPr marL="35748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8) Regulation of water balance :- When the body water content is reduced it decreases the salivary secretion also. This cause dryness of the mouth and induces thirst when the water is taken it quenches the thirst and restores the body water content.</a:t>
            </a:r>
            <a:endParaRPr b="0" lang="en-US" sz="2800" spc="-1" strike="noStrike">
              <a:solidFill>
                <a:srgbClr val="000000"/>
              </a:solidFill>
              <a:latin typeface="Century Schoolbook"/>
            </a:endParaRPr>
          </a:p>
          <a:p>
            <a:pPr marL="35748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ecretion of saliva</a:t>
            </a:r>
            <a:r>
              <a:rPr b="0" lang="en-US" sz="2800" spc="-1" strike="noStrike">
                <a:solidFill>
                  <a:srgbClr val="000000"/>
                </a:solidFill>
                <a:latin typeface="Century Schoolbook"/>
              </a:rPr>
              <a:t>:- The daily secretion of saliva normally ranges between 800 to 1500 ml. saliva contains two major types of protein secretion:-</a:t>
            </a:r>
            <a:endParaRPr b="0" lang="en-US" sz="2800" spc="-1" strike="noStrike">
              <a:solidFill>
                <a:srgbClr val="000000"/>
              </a:solidFill>
              <a:latin typeface="Century Schoolbook"/>
            </a:endParaRPr>
          </a:p>
          <a:p>
            <a:pPr marL="35748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1) A serous secretion that contains ptyaline (an </a:t>
            </a:r>
            <a:r>
              <a:rPr b="0" lang="el-GR" sz="2800" spc="-1" strike="noStrike">
                <a:solidFill>
                  <a:srgbClr val="000000"/>
                </a:solidFill>
                <a:latin typeface="Century Schoolbook"/>
              </a:rPr>
              <a:t>α</a:t>
            </a:r>
            <a:r>
              <a:rPr b="0" lang="en-US" sz="2800" spc="-1" strike="noStrike">
                <a:solidFill>
                  <a:srgbClr val="000000"/>
                </a:solidFill>
                <a:latin typeface="Century Schoolbook"/>
              </a:rPr>
              <a:t> amylase) which is an enzyme for digesting starch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Mucous secretion:- that contains mucin for lubricating and for surface protective purposes. The parotid glands secrete entirely the serious type of secretion and the sub mandibular and sublingul glands secrete both the serous type and mucus. The buccal glands secrete only mucus. Saliva has a PH between 6.0 and 7.0 a favourable range for the digestive action of ptyali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000000"/>
                </a:solidFill>
                <a:uFillTx/>
                <a:latin typeface="Century Schoolbook"/>
              </a:rPr>
              <a:t>Regulation of salivary secre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aliva is continuously secreted. During mastification of the food, the secretion is increased. The secretion of saliva is regulated only by nervous mechanis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Nerve supply to Salivary glands</a:t>
            </a:r>
            <a:r>
              <a:rPr b="0" lang="en-US" sz="2400" spc="-1" strike="noStrike" u="sng">
                <a:solidFill>
                  <a:srgbClr val="000000"/>
                </a:solidFill>
                <a:uFillTx/>
                <a:latin typeface="Century Schoolbook"/>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alivary glands are under control of autonomic nervous system and receive efferent nerve fibres from both parasymathatic and sympathatic divisions of autonomic nervous syste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0" y="0"/>
            <a:ext cx="9144000" cy="685800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 Tongue</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 Teeth</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 Pharynx</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 Esophagus</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roduction</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istology</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hysiology</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pplied</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 Stomach</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roducton</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unctional Anatomy</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istology</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land of stomach</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Reflex mechanism of salivary secre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salivary secretion is a reflexes phenomenon salivary reflexes are of two types, namely unconditioned reflex and conditioned.</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Unconditioned Reflex:-</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When any substance is placed in the mouth the salivary secretion occurs. This is called the unconditional reflex and it is due to the stimulation of nerve endings in the mucus membrane of the oral cavity. This reflex is inborn and occurs immediately after birth. This quality of the substance is immaterial.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Condition Reflex:- </a:t>
            </a:r>
            <a:r>
              <a:rPr b="0" lang="en-US" sz="2800" spc="-1" strike="noStrike">
                <a:solidFill>
                  <a:srgbClr val="000000"/>
                </a:solidFill>
                <a:latin typeface="Century Schoolbook"/>
              </a:rPr>
              <a:t>Salivary secretion also occurs by the sight, smell or thought of food. This reflex is called conditioned reflex.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is is due to the impulses arising from eyes. Nose etc. This is not inborn reflex but it is an acquired reflex. This need previous experience.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60"/>
            <a:ext cx="822960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APPLIED PHYSIOLOGY</a:t>
            </a:r>
            <a:endParaRPr b="0" lang="en-US" sz="3600" spc="-1" strike="noStrike">
              <a:solidFill>
                <a:srgbClr val="575f6d"/>
              </a:solidFill>
              <a:latin typeface="Century Schoolbook"/>
            </a:endParaRPr>
          </a:p>
        </p:txBody>
      </p:sp>
      <p:sp>
        <p:nvSpPr>
          <p:cNvPr id="399" name=""/>
          <p:cNvSpPr txBox="1"/>
          <p:nvPr/>
        </p:nvSpPr>
        <p:spPr>
          <a:xfrm>
            <a:off x="0" y="838080"/>
            <a:ext cx="9144000" cy="6019920"/>
          </a:xfrm>
          <a:prstGeom prst="rect">
            <a:avLst/>
          </a:prstGeom>
          <a:noFill/>
          <a:ln w="0">
            <a:noFill/>
          </a:ln>
        </p:spPr>
        <p:txBody>
          <a:bodyPr anchor="t">
            <a:normAutofit/>
          </a:bodyPr>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Hyposalivation:- </a:t>
            </a:r>
            <a:r>
              <a:rPr b="0" lang="en-US" sz="2400" spc="-1" strike="noStrike">
                <a:solidFill>
                  <a:srgbClr val="000000"/>
                </a:solidFill>
                <a:latin typeface="Century Schoolbook"/>
              </a:rPr>
              <a:t>The reducation in the secretion of saliva is called the hyposalivation. It is of two types namely the temperory hyposalivation and the permanent hyposalivation.</a:t>
            </a:r>
            <a:endParaRPr b="0" lang="en-US" sz="24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emperory hyposalivation occurs in the following condition:- </a:t>
            </a:r>
            <a:endParaRPr b="0" lang="en-US" sz="24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Emotional condition like fear,</a:t>
            </a:r>
            <a:endParaRPr b="0" lang="en-US" sz="24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i) Fever and</a:t>
            </a:r>
            <a:endParaRPr b="0" lang="en-US" sz="24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ii) Dehydration</a:t>
            </a:r>
            <a:endParaRPr b="0" lang="en-US" sz="24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a:t>
            </a:r>
            <a:r>
              <a:rPr b="1" lang="en-US" sz="2400" spc="-1" strike="noStrike" u="sng">
                <a:solidFill>
                  <a:srgbClr val="000000"/>
                </a:solidFill>
                <a:uFillTx/>
                <a:latin typeface="Century Schoolbook"/>
              </a:rPr>
              <a:t>) Permanent hyposalivation occurs:-</a:t>
            </a:r>
            <a:endParaRPr b="0" lang="en-US" sz="24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    obstruction of salivary duct.</a:t>
            </a:r>
            <a:endParaRPr b="0" lang="en-US" sz="24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ptyalism or xerostomia- congenital absence or hypoplasia of salivary glands and </a:t>
            </a:r>
            <a:endParaRPr b="0" lang="en-US" sz="2400" spc="-1" strike="noStrike">
              <a:solidFill>
                <a:srgbClr val="000000"/>
              </a:solidFill>
              <a:latin typeface="Century Schoolbook"/>
            </a:endParaRPr>
          </a:p>
          <a:p>
            <a:pPr marL="660240" indent="-660240">
              <a:lnSpc>
                <a:spcPct val="90000"/>
              </a:lnSpc>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ll’s Palsy – paralysis of facial nerve</a:t>
            </a:r>
            <a:endParaRPr b="0" lang="en-US" sz="2400" spc="-1" strike="noStrike">
              <a:solidFill>
                <a:srgbClr val="000000"/>
              </a:solidFill>
              <a:latin typeface="Century Schoolbook"/>
            </a:endParaRPr>
          </a:p>
          <a:p>
            <a:pPr marL="660240" indent="-660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0" y="0"/>
            <a:ext cx="9144000" cy="6858000"/>
          </a:xfrm>
          <a:prstGeom prst="rect">
            <a:avLst/>
          </a:prstGeom>
          <a:noFill/>
          <a:ln w="0">
            <a:noFill/>
          </a:ln>
        </p:spPr>
        <p:txBody>
          <a:bodyPr anchor="t">
            <a:normAutofit/>
          </a:bodyPr>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ypersalivation or Sialorrhea:-</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increase in the secretion of saliva is called hypersalivation or sialorrhea. This occurs in the following condition.</a:t>
            </a:r>
            <a:endParaRPr b="0" lang="en-US" sz="28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egnancy- due to unknown cause.</a:t>
            </a:r>
            <a:endParaRPr b="0" lang="en-US" sz="28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ecay of tooth or neoplasm of mouth or tongue due to continuous irritation of nerve ending in the mouth.</a:t>
            </a:r>
            <a:endParaRPr b="0" lang="en-US" sz="28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sease of esophagus, stomach and intestine.</a:t>
            </a:r>
            <a:endParaRPr b="0" lang="en-US" sz="28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ome psychological condition</a:t>
            </a:r>
            <a:endParaRPr b="0" lang="en-US" sz="2800" spc="-1" strike="noStrike">
              <a:solidFill>
                <a:srgbClr val="000000"/>
              </a:solidFill>
              <a:latin typeface="Century Schoolbook"/>
            </a:endParaRPr>
          </a:p>
          <a:p>
            <a:pPr marL="365040" indent="-255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ausea and vomiting.</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Chorda tympani syndrome</a:t>
            </a:r>
            <a:r>
              <a:rPr b="0" lang="en-US" sz="2800" spc="-1" strike="noStrike">
                <a:solidFill>
                  <a:srgbClr val="000000"/>
                </a:solidFill>
                <a:latin typeface="Century Schoolbook"/>
              </a:rPr>
              <a:t>:- During the regeneration of nerve fibres following trauma or surgical division, some of the nerve fibres of salivary gland which pass through chorda tympani branch of facial nerve may be misdirected and join with the nerve fibers supplying sweat gland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txBox="1"/>
          <p:nvPr/>
        </p:nvSpPr>
        <p:spPr>
          <a:xfrm>
            <a:off x="0" y="0"/>
            <a:ext cx="9144000" cy="6858000"/>
          </a:xfrm>
          <a:prstGeom prst="rect">
            <a:avLst/>
          </a:prstGeom>
          <a:noFill/>
          <a:ln w="0">
            <a:noFill/>
          </a:ln>
        </p:spPr>
        <p:txBody>
          <a:bodyPr anchor="t">
            <a:normAutofit fontScale="98000"/>
          </a:bodyPr>
          <a:p>
            <a:pPr marL="35748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o, when the food is taken in the mouth, salivary secretion is associated with sweat secretion. This is called the chorda tympani syndrome.</a:t>
            </a:r>
            <a:endParaRPr b="0" lang="en-US" sz="2800" spc="-1" strike="noStrike">
              <a:solidFill>
                <a:srgbClr val="000000"/>
              </a:solidFill>
              <a:latin typeface="Century Schoolbook"/>
            </a:endParaRPr>
          </a:p>
          <a:p>
            <a:pPr marL="35748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aralytic secretion of saliva:-</a:t>
            </a:r>
            <a:endParaRPr b="0" lang="en-US" sz="2800" spc="-1" strike="noStrike">
              <a:solidFill>
                <a:srgbClr val="000000"/>
              </a:solidFill>
              <a:latin typeface="Century Schoolbook"/>
            </a:endParaRPr>
          </a:p>
          <a:p>
            <a:pPr marL="35748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When the parasympathatic nerve to salivary gland is cut, salivary secretion increases for 3 weekes and later diminishes and then stops at about 6</a:t>
            </a:r>
            <a:r>
              <a:rPr b="0" lang="en-US" sz="2800" spc="-1" strike="noStrike" baseline="30000">
                <a:solidFill>
                  <a:srgbClr val="000000"/>
                </a:solidFill>
                <a:latin typeface="Century Schoolbook"/>
              </a:rPr>
              <a:t>th</a:t>
            </a:r>
            <a:r>
              <a:rPr b="0" lang="en-US" sz="2800" spc="-1" strike="noStrike">
                <a:solidFill>
                  <a:srgbClr val="000000"/>
                </a:solidFill>
                <a:latin typeface="Century Schoolbook"/>
              </a:rPr>
              <a:t> week. The increased secretion of saliva after cutting the parasympathatic nerve fibers is called paralytic secretion. This is because of release of more amount of andrenaline from the suprarenal glands after the denervation. The acinar cells of the salivary glands are hypersensitive to adrenaline. The paralytic secretion does not occur after cutting the sympathatic nerves fibers to salivary gland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Schoolbook"/>
              </a:rPr>
              <a:t>Mumps:- </a:t>
            </a:r>
            <a:r>
              <a:rPr b="0" lang="en-US" sz="2600" spc="-1" strike="noStrike">
                <a:solidFill>
                  <a:srgbClr val="000000"/>
                </a:solidFill>
                <a:latin typeface="Century Schoolbook"/>
              </a:rPr>
              <a:t>Although any of the salivary glands may be the target a nasophryngeal infections the mumps virus typically attacks the parotid glands. Mumps is a inflammation &amp; enlagement of parotid gland accompanied by moderate fever, and extreme pain in the throat, especially when swallowing sour foods or acidic juices.</a:t>
            </a:r>
            <a:endParaRPr b="0" lang="en-US" sz="2600" spc="-1" strike="noStrike">
              <a:solidFill>
                <a:srgbClr val="000000"/>
              </a:solidFill>
              <a:latin typeface="Century Schoolbook"/>
            </a:endParaRPr>
          </a:p>
          <a:p>
            <a:pPr marL="365040" indent="-255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Schoolbook"/>
              </a:rPr>
              <a:t>Tongue:</a:t>
            </a:r>
            <a:r>
              <a:rPr b="0" lang="en-US" sz="2600" spc="-1" strike="noStrike">
                <a:solidFill>
                  <a:srgbClr val="000000"/>
                </a:solidFill>
                <a:latin typeface="Century Schoolbook"/>
              </a:rPr>
              <a:t>- </a:t>
            </a:r>
            <a:endParaRPr b="0" lang="en-US" sz="26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The tongue is an accessory digstive organ composed of skeletal muscle covered with mucous membrane together with its associated muscle, it forms the floor of the oral cavity. The tongue is divided into symmatrical lateral halves by a median septum that extends its entire length and it is attached inferiorly to the hyoid bone, styloid process of temporal bone and mandible. Each half of the tongue consist of an identical complement of extrinsic and intrinsic muscle. </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txBox="1"/>
          <p:nvPr/>
        </p:nvSpPr>
        <p:spPr>
          <a:xfrm>
            <a:off x="0" y="-360"/>
            <a:ext cx="9144000" cy="7086600"/>
          </a:xfrm>
          <a:prstGeom prst="rect">
            <a:avLst/>
          </a:prstGeom>
          <a:noFill/>
          <a:ln w="0">
            <a:noFill/>
          </a:ln>
        </p:spPr>
        <p:txBody>
          <a:bodyPr anchor="t">
            <a:normAutofit fontScale="99000"/>
          </a:bodyPr>
          <a:p>
            <a:pPr marL="361080" indent="-252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800" spc="-1" strike="noStrike">
                <a:solidFill>
                  <a:srgbClr val="000000"/>
                </a:solidFill>
                <a:latin typeface="Century Schoolbook"/>
              </a:rPr>
              <a:t>The extrinsic muscle of the tongue which originate outside the tongue &amp; insert into the connective tissue in the tongue. The intrinsic muscle move the tongue  from side to side and in and out to maneuver food for chewing and force the food to the back of the mouth for swallowing. They also form the floor of the mouth and hold the tongue in position. </a:t>
            </a:r>
            <a:endParaRPr b="0" lang="en-US" sz="2800" spc="-1" strike="noStrike">
              <a:solidFill>
                <a:srgbClr val="000000"/>
              </a:solidFill>
              <a:latin typeface="Century Schoolbook"/>
            </a:endParaRPr>
          </a:p>
          <a:p>
            <a:pPr marL="361080" indent="-252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intrinsic muscle alter the shape and size of the tongue for speech and swallowing.</a:t>
            </a:r>
            <a:endParaRPr b="0" lang="en-US" sz="2800" spc="-1" strike="noStrike">
              <a:solidFill>
                <a:srgbClr val="000000"/>
              </a:solidFill>
              <a:latin typeface="Century Schoolbook"/>
            </a:endParaRPr>
          </a:p>
          <a:p>
            <a:pPr marL="361080" indent="-252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lingual frenulum a fold of mucous membrane in the midline of the under surface of the tongue attached to the floor of the mouth and aids in limiting the movement of the tongue posteriorly.</a:t>
            </a:r>
            <a:endParaRPr b="0" lang="en-US" sz="2800" spc="-1" strike="noStrike">
              <a:solidFill>
                <a:srgbClr val="000000"/>
              </a:solidFill>
              <a:latin typeface="Century Schoolbook"/>
            </a:endParaRPr>
          </a:p>
          <a:p>
            <a:pPr marL="361080" indent="-252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f a person’s lingual frenulum is abnormally short or rigid a condition called ankyloglossia then eating and speaking are impaired such that the person is said to be tongue tied.</a:t>
            </a:r>
            <a:endParaRPr b="0" lang="en-US" sz="2800" spc="-1" strike="noStrike">
              <a:solidFill>
                <a:srgbClr val="000000"/>
              </a:solidFill>
              <a:latin typeface="Century Schoolbook"/>
            </a:endParaRPr>
          </a:p>
          <a:p>
            <a:pPr marL="361080" indent="-252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dorsum and lateral surface of the tongue are covered with papilliae projection of lamina propria covered kertinized epithilium. Many papillae contain taste buds, the receptors for gustation (taste)</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Fungiform papillae are mushroom like elevation distributed among the filiform papillae that are more numerous near the tip of the tongue. They appear as red dots on the surface of the tongue and most of them contain taste buds. Vallate papillae are arranged in an inverted v shaped on the posterior surface of the tongue all of them contain taste buds.</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Foliate papillae are located in small trenches on the lateral margins of the tongue but most of their taste buds degenerate in early childhood.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txBox="1"/>
          <p:nvPr/>
        </p:nvSpPr>
        <p:spPr>
          <a:xfrm>
            <a:off x="0" y="0"/>
            <a:ext cx="9144000" cy="6858000"/>
          </a:xfrm>
          <a:prstGeom prst="rect">
            <a:avLst/>
          </a:prstGeom>
          <a:noFill/>
          <a:ln w="0">
            <a:noFill/>
          </a:ln>
        </p:spPr>
        <p:txBody>
          <a:bodyPr anchor="t">
            <a:normAutofit/>
          </a:bodyPr>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iliform papillae are pointed thread like projections distributed in the parallel rows over the anterior two third of the tongue. Although filiform papillae lack taste buds they contain receptors for touch and increase friction between the tongue and food making it easier for the tongue to move food in the oral cavity.</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Lingual glands in the lamina propria secrete both mucus and  a watery sereous fluid that contains the enzymes lingual lipase which acts on triglycerides.</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365040" indent="-255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Teeth:-</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teeth are accessory digestive organs located in sockets of the alveolar processes of the mandible and maxillae. A typical tooth has three major regions. The crown is the visible portion above the level of the gum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subTitle"/>
          </p:nvPr>
        </p:nvSpPr>
        <p:spPr>
          <a:xfrm>
            <a:off x="0" y="0"/>
            <a:ext cx="9144000" cy="6858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Schoolbook"/>
              </a:rPr>
              <a:t>PHARYNX</a:t>
            </a:r>
            <a:endParaRPr b="0" lang="en-US" sz="3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is musculo membraneous tube whose constricted end in the oesophagus. Its division from above downward are nasal, oral and laryngeal. The mucous membrane lines the pharynx. Its walls are provided with sensory receptors. These receptors are sensitive to mechanical stimulation and are essential in the mechanism of swallowing. When liquid are food stimualtes there touch receptors, a complex refelex of swallowing is initiated, but when there sensory areas are anaes thetised, swallowing becomes difficult</a:t>
            </a:r>
            <a:r>
              <a:rPr b="0" lang="en-US" sz="1800" spc="-1" strike="noStrike">
                <a:solidFill>
                  <a:srgbClr val="000000"/>
                </a:solidFill>
                <a:latin typeface="Century Schoolbook"/>
              </a:rPr>
              <a: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Function of Stomach</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 Applied physiology</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 Pancreas</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natomy</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istology</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ii) Pancreatic juic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v) Applied physiology</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 Liver and Gallbladder</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roduc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natomy of Liver</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illiary system</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lood supply</a:t>
            </a:r>
            <a:endParaRPr b="0" lang="en-US" sz="2800" spc="-1" strike="noStrike">
              <a:solidFill>
                <a:srgbClr val="000000"/>
              </a:solidFill>
              <a:latin typeface="Century Schoolbook"/>
            </a:endParaRPr>
          </a:p>
          <a:p>
            <a:pPr marL="272880" indent="-27288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mposition of Bil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Other than function of transmission of air from nose or mouth to the larynx and production of voice pharynx serves as a channel to transport food from mouth to oesophagus. During deglutition or swallowing, closure of mouth and nasopharynx effectively snuts of the pharynx from outside atmosphere. Dilation of closed pharynx by contraction of pharyngeal muscle result in development of a slight negative pressure when this effect is combined with thrust, food is pushed downward and onward in the oesophagu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mbedded in the socket are one to three roots. The neck is the constricted junction of the crown and root near the gumline.</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365040" indent="-255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Esophagus:-</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esophagus is a collapsible muscular tube that lies posterior to the trachea. It is about 25cm (10inch) long. The oesophagus begins at the inferior end of the laryngopharynx  and passes through the mediastenum anterior to vertebral column. Then it pierces the diaphragm through an opening called the esophagial hiatus and ends in the superior portion of stomach sometimes, part of the stomach protrudes above the diaphragm through the esopageal hiatus. This condition is termed hiatal hernia.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istology of the Esophagu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mucosa of the esophagus consist of nonkeratinized stratified squamous epithilium lamina propria and a muscularis mucosa. Near the stomach, the mucosa of esophagus also contains mucous gland.</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submucosa contain areolar connective tissue, blood vessel and mucous gland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muscularis of the superior third of the oesophagus is skeletal muscle the intermediate third is skeletal and smooth muscle and the inferior third is smooth muscle. The superficial layer is known as the adventitia. The adventitia attaches the esophagus to surrounding  structur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txBox="1"/>
          <p:nvPr/>
        </p:nvSpPr>
        <p:spPr>
          <a:xfrm>
            <a:off x="0" y="0"/>
            <a:ext cx="9144000" cy="6858000"/>
          </a:xfrm>
          <a:prstGeom prst="rect">
            <a:avLst/>
          </a:prstGeom>
          <a:noFill/>
          <a:ln w="0">
            <a:noFill/>
          </a:ln>
        </p:spPr>
        <p:txBody>
          <a:bodyPr anchor="t">
            <a:normAutofit/>
          </a:bodyPr>
          <a:p>
            <a:pPr marL="365040" indent="-255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lang="en-US" sz="2800" spc="-1" strike="noStrike" u="sng">
                <a:solidFill>
                  <a:srgbClr val="000000"/>
                </a:solidFill>
                <a:uFillTx/>
                <a:latin typeface="Century Schoolbook"/>
              </a:rPr>
              <a:t>Physilogy of Esophagus:-</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osophagus secretes mucus and transport food into the stomach. It does not produce digestive enzymes, and it doesnot carry on absorption. The passage of food from the larygopharynx into the oesophagus is regulated at the entrance to the esophagus by a sphincter called the upper esophageal sphincter. The elevation of the larynx during the pharangeal stage of swallowing causes the sphincter to relax and the bolus enters the esophagus. This sphincter also relaxes during exhalation. During the esophageal stage of swallowing, peristalsis, a progression of cordinated contraction and relaxations of the circulation and longitudnal layers of the muscularis, pushes the food bolus onward.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txBox="1"/>
          <p:nvPr/>
        </p:nvSpPr>
        <p:spPr>
          <a:xfrm>
            <a:off x="0" y="0"/>
            <a:ext cx="9144000" cy="6858000"/>
          </a:xfrm>
          <a:prstGeom prst="rect">
            <a:avLst/>
          </a:prstGeom>
          <a:noFill/>
          <a:ln w="0">
            <a:noFill/>
          </a:ln>
        </p:spPr>
        <p:txBody>
          <a:bodyPr anchor="t">
            <a:normAutofit/>
          </a:bodyPr>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 the oesophagus it is controlled by the medulla oblongata. In the section of the esophagus just superior to the bolus the circular fibers contract constructing the esophageal wall and squeezing the bolus towards the stomach meanwhile, longitudinal fibers  inferior to the bolus also contract, shortens , this inferior section and pushes its walls outwards so it can receive the bolus. The contraction are repeated in a wave that pushes the food towards the stomach mucus secreted by esophageal  glands lubricates the bolus and reduces friction the passage of solid or semisolid food from the mouth to the stomach takes 4 to 8 seconds very soft foods and liquids pass through in 1 sec.</a:t>
            </a:r>
            <a:endParaRPr b="0" lang="en-US" sz="2800" spc="-1" strike="noStrike">
              <a:solidFill>
                <a:srgbClr val="000000"/>
              </a:solidFill>
              <a:latin typeface="Century Schoolbook"/>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Just superior to the diapharm the esophagus narrows slightly due to maintained contraction of the muscularis at the lowest part of the esophagu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0" y="0"/>
            <a:ext cx="9144000" cy="6858000"/>
          </a:xfrm>
          <a:prstGeom prst="rect">
            <a:avLst/>
          </a:prstGeom>
          <a:noFill/>
          <a:ln w="0">
            <a:noFill/>
          </a:ln>
        </p:spPr>
        <p:txBody>
          <a:bodyPr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is physiological sphincter known as the lower esophageal sphincter relaxes during swallowing and thus allows the bolus to pass from the esophagus into stomach.</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astroesophageal reflux Disease:-</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f the lower esophageal sphincter fails to close adequately after food has entered the stomach, the stomach contents can reflex or backup into the inferior portion of the esophagus. This condition is known as Gastrooesophageal reflux.</a:t>
            </a:r>
            <a:endParaRPr b="0" lang="en-US" sz="2800" spc="-1" strike="noStrike">
              <a:solidFill>
                <a:srgbClr val="000000"/>
              </a:solidFill>
              <a:latin typeface="Century Schoolbook"/>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cl from the stomach contents can irritate the esophageal wall resulting in a burning sensation called Heart burn because it is experienced in a region very near the heart drinking  alcohol and smoking can cause the sphincter to relax worsening the proble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txBox="1"/>
          <p:nvPr/>
        </p:nvSpPr>
        <p:spPr>
          <a:xfrm>
            <a:off x="0" y="0"/>
            <a:ext cx="9144000" cy="68580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symptom of GERD after can be controlled by avoiding foods that strongly stimulate stomach acid secretion coffee, chocolate, fatty foods, orange juice and onion. </a:t>
            </a:r>
            <a:endParaRPr b="0" lang="en-US" sz="2800" spc="-1" strike="noStrike">
              <a:solidFill>
                <a:srgbClr val="000000"/>
              </a:solidFill>
              <a:latin typeface="Century Schoolbook"/>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tomach</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lang="en-US" sz="2800" spc="-1" strike="noStrike" u="sng">
                <a:solidFill>
                  <a:srgbClr val="000000"/>
                </a:solidFill>
                <a:uFillTx/>
                <a:latin typeface="Century Schoolbook"/>
              </a:rPr>
              <a:t>Introduction:-</a:t>
            </a:r>
            <a:r>
              <a:rPr b="0" lang="en-US" sz="2800" spc="-1" strike="noStrike">
                <a:solidFill>
                  <a:srgbClr val="000000"/>
                </a:solidFill>
                <a:latin typeface="Century Schoolbook"/>
              </a:rPr>
              <a:t>  stomach is muscular bag like structure. It is typically j-shaped it is upper most dilated part of the digestive tube it is situated  directly inferior to  the diaphragm in the epigastric, umblical and left hypondric region of the abdomen</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stomach connects the usophegus to the duodemem the first part of the small intestine. Because a meal can be eaten much more quickly then the intestine can digest and absorb it, one of the fuction  of the stomach is to serve as  the mixing  chember and holding the reserved vior. </a:t>
            </a:r>
            <a:endParaRPr b="0" lang="en-US" sz="2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t apropriate intervals after food is injuste, the stomach forces a small quitety of material into first portion of small intestine. The position and size of the stomach veries contineously, the diagpharm pushes it  </a:t>
            </a:r>
            <a:r>
              <a:rPr b="1" lang="en-US" sz="2800" spc="-1" strike="noStrike" u="sng">
                <a:solidFill>
                  <a:srgbClr val="000000"/>
                </a:solidFill>
                <a:uFillTx/>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feriorly which each inspiration and pull it superiourly which it inspiration empty it is about the size long sausage but it is most distensible part  of the GIT and can accommodate a large quentity of food in the stomach digestion starch continues digestion of protein begins the semi solid bolus is converted to a liquid and certain substance is absorb.</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unctional anatomy of stomach:-</a:t>
            </a:r>
            <a:r>
              <a:rPr b="0" lang="en-US" sz="2800" spc="-1" strike="noStrike">
                <a:solidFill>
                  <a:srgbClr val="000000"/>
                </a:solidFill>
                <a:latin typeface="Century Schoolbook"/>
              </a:rPr>
              <a:t> it has four main regions </a:t>
            </a:r>
            <a:endParaRPr b="0" lang="en-US" sz="28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Cardiac </a:t>
            </a:r>
            <a:endParaRPr b="0" lang="en-US" sz="28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Fundus</a:t>
            </a:r>
            <a:endParaRPr b="0" lang="en-US" sz="28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ody </a:t>
            </a:r>
            <a:endParaRPr b="0" lang="en-US" sz="28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lyrou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Phoonk\D\My Pictures\Pictures\Amrita\Picture 01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0" y="0"/>
            <a:ext cx="9144000" cy="685800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 Properties</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i) Storage of Bile</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ii) Function of bile</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x) Function of Liver</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Gallbladder</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roduction</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unction of Gallbladder.</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pplied physiology of Gallbladder and Liver.</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mall Intestine</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roduction</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natomy</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istology</a:t>
            </a: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perties and composition of succus entericus</a:t>
            </a: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14440" indent="-514440">
              <a:spcBef>
                <a:spcPts val="601"/>
              </a:spcBef>
              <a:buClr>
                <a:srgbClr val="fe8637"/>
              </a:buClr>
              <a:buSzPct val="70000"/>
              <a:buFont typeface="Century School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subTitle"/>
          </p:nvPr>
        </p:nvSpPr>
        <p:spPr>
          <a:xfrm>
            <a:off x="0" y="0"/>
            <a:ext cx="9144000" cy="6858000"/>
          </a:xfrm>
          <a:prstGeom prst="rect">
            <a:avLst/>
          </a:prstGeom>
          <a:noFill/>
          <a:ln w="0">
            <a:noFill/>
          </a:ln>
        </p:spPr>
        <p:txBody>
          <a:bodyPr anchor="t">
            <a:noAutofit/>
          </a:bodyPr>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cardiac surrounds the superior opening of the stomach. The fundus is the upper most dilated dome shaped part of stomach when the fundus is distented with gas it may produced cardiac restress ( chest pain) body of stomach is large part lies between the fundus and pylorus.</a:t>
            </a:r>
            <a:endParaRPr b="0" lang="en-US" sz="2800" spc="-1" strike="noStrike">
              <a:solidFill>
                <a:srgbClr val="000000"/>
              </a:solidFill>
              <a:latin typeface="Century Schoolbook"/>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ylorus is the distal part of stomach. The pylorus is sub divided by inconstant sulcus intermedious into the two part- the proximal part is pyloric and trum and distul part is pyloric cannal.</a:t>
            </a:r>
            <a:endParaRPr b="0" lang="en-US" sz="2800" spc="-1" strike="noStrike">
              <a:solidFill>
                <a:srgbClr val="000000"/>
              </a:solidFill>
              <a:latin typeface="Century Schoolbook"/>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Rectangle 4"/>
          <p:cNvSpPr/>
          <p:nvPr/>
        </p:nvSpPr>
        <p:spPr>
          <a:xfrm>
            <a:off x="0" y="228600"/>
            <a:ext cx="9144000" cy="43599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fore there are two ends of the stomach </a:t>
            </a:r>
            <a:endParaRPr b="1"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dialc end- it is thin and anatomically there is no sphincter but physiologically there is circular muscular muscle fiber which prevents the regurvitation of food.</a:t>
            </a:r>
            <a:endParaRPr b="1"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lorilc end- it is thick. The thickness of puloruls due to the pyloric sphincter.</a:t>
            </a:r>
            <a:endParaRPr b="1"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two curvature –</a:t>
            </a:r>
            <a:endParaRPr b="1"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onque middle border is lesser corvature </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 convex lateral border is greater carvature</a:t>
            </a:r>
            <a:r>
              <a:rPr b="0"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ISTOLOGY OF STOMACH:-</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wall of the stomach has four layer –</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uter serous layre</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uscular layer </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ubmucous layer</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ner mucous layer</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OUTER SEROUS LAYER:-</a:t>
            </a:r>
            <a:r>
              <a:rPr b="0" lang="en-US" sz="2800" spc="-1" strike="noStrike">
                <a:solidFill>
                  <a:srgbClr val="000000"/>
                </a:solidFill>
                <a:latin typeface="Century Schoolbook"/>
              </a:rPr>
              <a:t> This is formed by peritonium which covers the stomach except at the laser and grater carvatures where omenta are attached</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MUSCULAR LAYER:-</a:t>
            </a:r>
            <a:r>
              <a:rPr b="0" lang="en-US" sz="2800" spc="-1" strike="noStrike">
                <a:solidFill>
                  <a:srgbClr val="000000"/>
                </a:solidFill>
                <a:latin typeface="Century Schoolbook"/>
              </a:rPr>
              <a:t> this is consist of three layer of smooth muscle fibers namely inner/, middle circular and outer longitudinal layer. Aubach’s plexus i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Phoonk\D\My Pictures\Pictures\Amrita\Picture 01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ituated between the logitudan and circulation musuclar parllel.</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UBMUSCUS LAYER:-</a:t>
            </a:r>
            <a:r>
              <a:rPr b="0" lang="en-US" sz="2800" spc="-1" strike="noStrike">
                <a:solidFill>
                  <a:srgbClr val="000000"/>
                </a:solidFill>
                <a:latin typeface="Century Schoolbook"/>
              </a:rPr>
              <a:t> This is formed by areolar tissue,  blood vessel, lymph vessel and missner’s plexus of nerve fiber are present in this layer.</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INNER MUCUS LAYER;-</a:t>
            </a:r>
            <a:r>
              <a:rPr b="0" lang="en-US" sz="2800" spc="-1" strike="noStrike">
                <a:solidFill>
                  <a:srgbClr val="000000"/>
                </a:solidFill>
                <a:latin typeface="Century Schoolbook"/>
              </a:rPr>
              <a:t> This is lying by mucus secreating polyminar epithirial cells. The gastric gland are situated in this layer. Under and resting condition the mucosa of the stomach is thrown into many folds this folds are called rugi. However the ruagi disappear the stomach is dis-standed after meals, through out the inner surface of stomach small dipretion are seen. These are called gastric pits, the glands of stomach open into these pits. The inner suface of stomach is also coverd by 2mm thick mucu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LANDS OF STOMACH:-</a:t>
            </a:r>
            <a:r>
              <a:rPr b="0" lang="en-US" sz="2800" spc="-1" strike="noStrike">
                <a:solidFill>
                  <a:srgbClr val="000000"/>
                </a:solidFill>
                <a:latin typeface="Century Schoolbook"/>
              </a:rPr>
              <a:t> the glands of stomach and the gastric gland are divided into tree types, depending upon the situation. </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undic glands</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Pyloric glands</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Cardiac glands</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undic glands</a:t>
            </a:r>
            <a:r>
              <a:rPr b="0" lang="en-US" sz="2800" spc="-1" strike="noStrike">
                <a:solidFill>
                  <a:srgbClr val="000000"/>
                </a:solidFill>
                <a:latin typeface="Century Schoolbook"/>
              </a:rPr>
              <a:t>:- these are situated in body and fundus of stomach. These are also called main gastric glands osygentic glands.</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fundic glands secreats- </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cl</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psinogen</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oluble musin and the  secreation is storngly acidic</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rensic factor of castle.</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yloric glands:- these are present in the  pyloric part of the stomach. Secreation is slightly alkaline in reaction and is reach in musin but contain no Hcl.</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ardiac glands:- these glands are situated in the cardiac region of stomach. Secreats musin plus only a little pepsinogen.</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tructue and functions of fundic glands:-</a:t>
            </a:r>
            <a:r>
              <a:rPr b="0" lang="en-US" sz="2800" spc="-1" strike="noStrike">
                <a:solidFill>
                  <a:srgbClr val="000000"/>
                </a:solidFill>
                <a:latin typeface="Century Schoolbook"/>
              </a:rPr>
              <a:t> fundic glands are long are tubler. Tese are tubler glands having body, neck, stomach. Many glands open into a comman gastric  pit. Which intern open on the  surface of gastirc muscus membranane. The fundic gland of the stomach are consider as the typical glands. The different of cells of these glands are first of </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subTitle"/>
          </p:nvPr>
        </p:nvSpPr>
        <p:spPr>
          <a:xfrm>
            <a:off x="0" y="0"/>
            <a:ext cx="9144000" cy="6858000"/>
          </a:xfrm>
          <a:prstGeom prst="rect">
            <a:avLst/>
          </a:prstGeom>
          <a:noFill/>
          <a:ln w="0">
            <a:noFill/>
          </a:ln>
        </p:spPr>
        <p:txBody>
          <a:bodyPr anchor="t">
            <a:noAutofit/>
          </a:bodyPr>
          <a:p>
            <a:pPr marL="533520" indent="-53352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hief or peptic cells.</a:t>
            </a:r>
            <a:endParaRPr b="0" lang="en-US" sz="2200" spc="-1" strike="noStrike">
              <a:solidFill>
                <a:srgbClr val="000000"/>
              </a:solidFill>
              <a:latin typeface="Century Schoolbook"/>
            </a:endParaRPr>
          </a:p>
          <a:p>
            <a:pPr marL="533520" indent="-533520">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yrital or oxyntic cells.</a:t>
            </a:r>
            <a:endParaRPr b="0" lang="en-US" sz="2200" spc="-1" strike="noStrike">
              <a:solidFill>
                <a:srgbClr val="000000"/>
              </a:solidFill>
              <a:latin typeface="Century Schoolbook"/>
            </a:endParaRPr>
          </a:p>
          <a:p>
            <a:pPr marL="533520" indent="-533520">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Neck mucus cell.</a:t>
            </a:r>
            <a:endParaRPr b="0" lang="en-US" sz="2200" spc="-1" strike="noStrike">
              <a:solidFill>
                <a:srgbClr val="000000"/>
              </a:solidFill>
              <a:latin typeface="Century Schoolbook"/>
            </a:endParaRPr>
          </a:p>
          <a:p>
            <a:pPr marL="533520" indent="-533520">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urface epithelial cells.</a:t>
            </a:r>
            <a:endParaRPr b="0" lang="en-US" sz="2200" spc="-1" strike="noStrike">
              <a:solidFill>
                <a:srgbClr val="000000"/>
              </a:solidFill>
              <a:latin typeface="Century Schoolbook"/>
            </a:endParaRPr>
          </a:p>
          <a:p>
            <a:pPr marL="533520" indent="-533520">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 cells.</a:t>
            </a:r>
            <a:endParaRPr b="0" lang="en-US" sz="2200" spc="-1" strike="noStrike">
              <a:solidFill>
                <a:srgbClr val="000000"/>
              </a:solidFill>
              <a:latin typeface="Century Schoolbook"/>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Summary of digestive activity in the stomach.</a:t>
            </a:r>
            <a:endParaRPr b="0" lang="en-US" sz="2200" spc="-1" strike="noStrike">
              <a:solidFill>
                <a:srgbClr val="000000"/>
              </a:solidFill>
              <a:latin typeface="Century Schoolbook"/>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graphicFrame>
        <p:nvGraphicFramePr>
          <p:cNvPr id="425" name=""/>
          <p:cNvGraphicFramePr/>
          <p:nvPr/>
        </p:nvGraphicFramePr>
        <p:xfrm>
          <a:off x="228600" y="3200400"/>
          <a:ext cx="8763120" cy="3535200"/>
        </p:xfrm>
        <a:graphic>
          <a:graphicData uri="http://schemas.openxmlformats.org/drawingml/2006/table">
            <a:tbl>
              <a:tblPr/>
              <a:tblGrid>
                <a:gridCol w="2590920"/>
                <a:gridCol w="2666880"/>
                <a:gridCol w="3505320"/>
              </a:tblGrid>
              <a:tr h="3538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STUCTURE</a:t>
                      </a:r>
                      <a:endParaRPr b="1"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1.  Chief cell</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ACTIVITY</a:t>
                      </a:r>
                      <a:endParaRPr b="1" lang="en-US" sz="2800" spc="-1" strike="noStrike">
                        <a:solidFill>
                          <a:srgbClr val="000000"/>
                        </a:solidFill>
                        <a:latin typeface="Arial"/>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secrete pepisnogen</a:t>
                      </a:r>
                      <a:endParaRPr b="1" lang="en-US" sz="2800" spc="-1" strike="noStrike">
                        <a:solidFill>
                          <a:srgbClr val="000000"/>
                        </a:solidFill>
                        <a:latin typeface="Arial"/>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crete gastric lipase.</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RESULTS</a:t>
                      </a:r>
                      <a:endParaRPr b="1" lang="en-US" sz="2400" spc="-1" strike="noStrike">
                        <a:solidFill>
                          <a:srgbClr val="000000"/>
                        </a:solidFill>
                        <a:latin typeface="Arial"/>
                      </a:endParaRPr>
                    </a:p>
                    <a:p>
                      <a:pPr>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epsinum the activated from, breaks certain peptide bonds in protein.</a:t>
                      </a:r>
                      <a:endParaRPr b="1" lang="en-US" sz="2400" spc="-1" strike="noStrike">
                        <a:solidFill>
                          <a:srgbClr val="000000"/>
                        </a:solidFill>
                        <a:latin typeface="Arial"/>
                      </a:endParaRPr>
                    </a:p>
                    <a:p>
                      <a:pPr>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plits short chain triglycerides into fatty acids and monology caritas</a:t>
                      </a:r>
                      <a:r>
                        <a:rPr b="0" lang="en-US" sz="1900" spc="-1" strike="noStrike">
                          <a:solidFill>
                            <a:srgbClr val="000000"/>
                          </a:solidFill>
                          <a:latin typeface="Century Schoolbook"/>
                        </a:rPr>
                        <a:t>.</a:t>
                      </a:r>
                      <a:endParaRPr b="1"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0" y="76320"/>
          <a:ext cx="9144000" cy="6781680"/>
        </p:xfrm>
        <a:graphic>
          <a:graphicData uri="http://schemas.openxmlformats.org/drawingml/2006/table">
            <a:tbl>
              <a:tblPr/>
              <a:tblGrid>
                <a:gridCol w="3048120"/>
                <a:gridCol w="3047760"/>
                <a:gridCol w="3048120"/>
              </a:tblGrid>
              <a:tr h="6781680">
                <a:tc>
                  <a:txBody>
                    <a:bodyPr lIns="90000" rIns="90000" tIns="46800" bIns="46800" anchor="t">
                      <a:noAutofit/>
                    </a:bodyPr>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tial cells.</a:t>
                      </a: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33520" indent="-533520">
                        <a:lnSpc>
                          <a:spcPct val="10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rface mucous cells  &amp; mucus neck cell</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Secreates hydrochloric acid</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   Secreates intrinsic factor. </a:t>
                      </a:r>
                      <a:endParaRPr b="1" lang="en-US" sz="2400" spc="-1" strike="noStrike">
                        <a:solidFill>
                          <a:srgbClr val="000000"/>
                        </a:solidFill>
                        <a:latin typeface="Arial"/>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Secreates mucous</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ills microbes in food elenatares proteins, converts  popsinogen into pepsin.</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eeded for absorption of vit.B12 which issues in R.B.C. formation.</a:t>
                      </a:r>
                      <a:endParaRPr b="1" lang="en-US" sz="2400" spc="-1" strike="noStrike">
                        <a:solidFill>
                          <a:srgbClr val="000000"/>
                        </a:solidFill>
                        <a:latin typeface="Arial"/>
                      </a:endParaRPr>
                    </a:p>
                    <a:p>
                      <a:pPr>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ms a protective barrier that prevents digestion of stomach wall.</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7" name=""/>
          <p:cNvGraphicFramePr/>
          <p:nvPr/>
        </p:nvGraphicFramePr>
        <p:xfrm>
          <a:off x="0" y="0"/>
          <a:ext cx="9144000" cy="6858000"/>
        </p:xfrm>
        <a:graphic>
          <a:graphicData uri="http://schemas.openxmlformats.org/drawingml/2006/table">
            <a:tbl>
              <a:tblPr/>
              <a:tblGrid>
                <a:gridCol w="3048120"/>
                <a:gridCol w="3047760"/>
                <a:gridCol w="3048120"/>
              </a:tblGrid>
              <a:tr h="6858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4. G-cell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  Absorption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Secrete gastrin</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mall quantity of water, ions, short chain fatty acids &amp; some drugs the blood stream.</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Stimulates partial cells to secretes Hcl &amp; chief  cells to secrete pepsinogen increases motality of the stomach 7 relaxes pyloric sphinter. </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 Function of succus entericu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 Function of small Intestin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J) Gastrointestinal Hormone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K) Movements of G.I.T</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 Absorption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8" name=""/>
          <p:cNvGraphicFramePr/>
          <p:nvPr/>
        </p:nvGraphicFramePr>
        <p:xfrm>
          <a:off x="0" y="0"/>
          <a:ext cx="9144000" cy="6858000"/>
        </p:xfrm>
        <a:graphic>
          <a:graphicData uri="http://schemas.openxmlformats.org/drawingml/2006/table">
            <a:tbl>
              <a:tblPr/>
              <a:tblGrid>
                <a:gridCol w="2438280"/>
                <a:gridCol w="2971800"/>
                <a:gridCol w="3733920"/>
              </a:tblGrid>
              <a:tr h="6858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 Muscularis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6. Pyloric sphinter</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Mixing waves.</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 peristalsis</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Opens to hermit passage of chyme into duodenum</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cerate food and mix it with gastric juice forming chyme.</a:t>
                      </a:r>
                      <a:endParaRPr b="1" lang="en-US" sz="2400" spc="-1" strike="noStrike">
                        <a:solidFill>
                          <a:srgbClr val="000000"/>
                        </a:solidFill>
                        <a:latin typeface="Arial"/>
                      </a:endParaRPr>
                    </a:p>
                    <a:p>
                      <a:pPr>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ces chyme through pyloric sphinter.</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Regulates passage of chyme from stomach from stomach to duodenum prevents backflow of chyme from duodenum to stomach</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Phoonk\D\My Pictures\Pictures\Amrita\Picture 02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i="1" lang="en-US" sz="2800" spc="-1" strike="noStrike" u="sng">
                <a:solidFill>
                  <a:srgbClr val="000000"/>
                </a:solidFill>
                <a:uFillTx/>
                <a:latin typeface="Century Schoolbook"/>
              </a:rPr>
              <a:t>Structure and function of pyloric glands:-</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pyloric glands are short and tortuous in structure with more mucous cells which are more columnar in nature. These glands secrets mostly mucin and gastrine and Gcells secrets gastrine.</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Structure and function of cardiac glands</a:t>
            </a:r>
            <a:r>
              <a:rPr b="0" i="1" lang="en-US" sz="2800" spc="-1" strike="noStrike" u="sng">
                <a:solidFill>
                  <a:srgbClr val="000000"/>
                </a:solidFill>
                <a:uFillTx/>
                <a:latin typeface="Century Schoolbook"/>
              </a:rPr>
              <a:t>:-</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ardiac glands are short and tortuous with more mucous cells which are columnar in nature. These glands secrets alkaline mucous and small quantity of pepsinogen.</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UNCTION OF STOMACH:</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orage function: the food is stored in the stomach for a long period before entering the intestine. The maximum capacity of stomach is upto 1.5 litres.</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Mechanical Function: the peristalsis movement of stomach mix the bolus with gastric juice and convert into the semisolid material called chyme.</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Digestive Function:The Gastric juice secreted by the glands of the stomach contains mainly the engymes acting on proteins.</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4. Protective Function: The HCL present in the gastic juice destroys many types of bacteria entering the body along with food.</a:t>
            </a:r>
            <a:endParaRPr b="0" lang="en-US" sz="2800" spc="-1" strike="noStrike">
              <a:solidFill>
                <a:srgbClr val="000000"/>
              </a:solidFill>
              <a:latin typeface="Century Schoolbook"/>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5. Hemopoietic Function: The intrinsic factor of castle, present in gastric juice is necessary for the absorption of vitamin B-12 which is called extrinsic factor. Vitamin B-12 is an important maturation factor during erythropoiesis. Thus, even the absence of intrinsic factor can lead to pernicious anaemia.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6. Excretory Function: Many substances like toxins, alkaloids and metals are excreated through gastric juice.</a:t>
            </a:r>
            <a:endParaRPr b="0" lang="en-US" sz="2800" spc="-1" strike="noStrike">
              <a:solidFill>
                <a:srgbClr val="000000"/>
              </a:solidFill>
              <a:latin typeface="Century Schoolbook"/>
            </a:endParaRPr>
          </a:p>
          <a:p>
            <a:pPr marL="609480" indent="-60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COMPOSITION OF GASTRIC JUICE</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composition of gastric juices is as follows:</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otal quantity about 500-1000 ml per meal.</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1200 ml-1500ml per day]</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ater - 99.45%</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otal Solids – 0.55%</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organic – 0.15% [Nacl, Kcl, Calcium, Phosphate, Bicarbonate etc.]</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rganic – [0.40 %] </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 Mucin</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 Intrinsic factor </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c) Enzyme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0" y="0"/>
            <a:ext cx="9144000" cy="685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 Enzymes:</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psin</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stric Rennin</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stric Lipase</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 this include free HCL as well as HCL combined with proteins. It also includes other acids such as lactic acids. As ordinarily examined, the gastric contents show a lower acidity because the HCL is partially neutarilised by mucin and other substance.</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H – 0.9 to 1.5</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pecific gravity – 1.002 to 1.004 </a:t>
            </a:r>
            <a:endParaRPr b="0" lang="en-US" sz="2800" spc="-1" strike="noStrike">
              <a:solidFill>
                <a:srgbClr val="000000"/>
              </a:solidFill>
              <a:latin typeface="Century Schoolbook"/>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0" y="0"/>
            <a:ext cx="9144000" cy="685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unction of Gastric Juice:</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Digestive Function:</a:t>
            </a:r>
            <a:r>
              <a:rPr b="0" lang="en-US" sz="2800" spc="-1" strike="noStrike">
                <a:solidFill>
                  <a:srgbClr val="000000"/>
                </a:solidFill>
                <a:latin typeface="Century Schoolbook"/>
              </a:rPr>
              <a:t> The gastric juice mainly acts on proteins. The engymes of the gastric juice acting on protein and protein convert into pepsin and renin. Gastric juice contains some engyme like gastric lipase, gelitinase, and urease.</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Pepsin:</a:t>
            </a:r>
            <a:r>
              <a:rPr b="0" lang="en-US" sz="2800" spc="-1" strike="noStrike">
                <a:solidFill>
                  <a:srgbClr val="000000"/>
                </a:solidFill>
                <a:latin typeface="Century Schoolbook"/>
              </a:rPr>
              <a:t> this is the main proteolytic engyme in gastric juice. It is secreted as pepsinogen which is inactive. Pepsinogen is converted into pepsin. </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ction of Pepsin:</a:t>
            </a:r>
            <a:r>
              <a:rPr b="0" lang="en-US" sz="2800" spc="-1" strike="noStrike">
                <a:solidFill>
                  <a:srgbClr val="000000"/>
                </a:solidFill>
                <a:latin typeface="Century Schoolbook"/>
              </a:rPr>
              <a:t> Pepsin attacks the peptide bond adjacent to aromatic amino acids by hydrolysis.  The products of  protein digestion by pepsin are proteosis, peptone and polypeptides.</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Renin:-</a:t>
            </a:r>
            <a:r>
              <a:rPr b="0" lang="en-US" sz="2800" spc="-1" strike="noStrike">
                <a:solidFill>
                  <a:srgbClr val="000000"/>
                </a:solidFill>
                <a:latin typeface="Century Schoolbook"/>
              </a:rPr>
              <a:t> It is a milk curdling  enzyme. It is present only in animals and not in man.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0" y="0"/>
            <a:ext cx="9144000" cy="685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astric Liapse:- </a:t>
            </a:r>
            <a:r>
              <a:rPr b="0" lang="en-US" sz="2800" spc="-1" strike="noStrike">
                <a:solidFill>
                  <a:srgbClr val="000000"/>
                </a:solidFill>
                <a:latin typeface="Century Schoolbook"/>
              </a:rPr>
              <a:t> gastric lipase is a weak lipolytic enzymes when compared to pancreatic lipase gastric lipase is inactive at a pts below 2.5 and it becomes active anly when the pts is between  4to5. these products of lipid digestion by gastric lipase are fatty acids and glycerols. </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ction of other engymes of gastric juice.</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elatinase:</a:t>
            </a:r>
            <a:r>
              <a:rPr b="0" lang="en-US" sz="2800" spc="-1" strike="noStrike">
                <a:solidFill>
                  <a:srgbClr val="000000"/>
                </a:solidFill>
                <a:latin typeface="Century Schoolbook"/>
              </a:rPr>
              <a:t> This is acts on gelatin.</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Urease:</a:t>
            </a:r>
            <a:r>
              <a:rPr b="0" lang="en-US" sz="2800" spc="-1" strike="noStrike">
                <a:solidFill>
                  <a:srgbClr val="000000"/>
                </a:solidFill>
                <a:latin typeface="Century Schoolbook"/>
              </a:rPr>
              <a:t> this enzyme acts on urea and produces amonia.</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emopoitic Function: </a:t>
            </a:r>
            <a:r>
              <a:rPr b="0" lang="en-US" sz="2800" spc="-1" strike="noStrike">
                <a:solidFill>
                  <a:srgbClr val="000000"/>
                </a:solidFill>
                <a:latin typeface="Century Schoolbook"/>
              </a:rPr>
              <a:t>the intrinsic factor present in gastric juice plays an important role in erythropoiesi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0" y="0"/>
            <a:ext cx="9144000" cy="685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is is necessary for absorption of the extrinsic factor (vitamin B-12) from GIT into the blood. Absence of intrinsic factor causes pernicious anaemia.</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Protective Function: the mucous present in the gastric juice is responsible for the protection of wall of the stomach. It is a mucous protein secreted by mucous neck cells and surface mucous cells. The function of mucous are –</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mucous membrane of the stomach is lined by a thick coat of mucous so the mucous lubricates the gastric mucosa. It protects the gastric mucosa from irritation.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0" y="0"/>
            <a:ext cx="9144000" cy="6858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prevents the digestive action of pepsin on the wall of stomach particularly gastric mucosa.</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ecause of alkaline nature and its acid combining power mucous protects the gastric mucosa from HCL of gastric juice.</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4) ACTION OF HCL:</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HCL present in the gastric juice has got the following func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activates pepsinogen into pepsin.</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has bacterioletic action. It kills some of the bacteria entering the stomach along with food substanc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INTRODUCTION </a:t>
            </a:r>
            <a:endParaRPr b="0" lang="en-US" sz="2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The food we eat contains a variety of nutrients, which are used for building new body tissues and repairing damaged  tissue. Food is also vital for life because it is our only source of chemical energy. As consumed however, most food cannot be used either to build tissues or to power the energy requiring chemical reaction of body calls. Rather, food must be broken down into molecule that are small enough to enter body cells, a process known as Digestion.</a:t>
            </a:r>
            <a:endParaRPr b="0" lang="en-US" sz="2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                             </a:t>
            </a:r>
            <a:r>
              <a:rPr b="1" lang="en-US" sz="2600" spc="-1" strike="noStrike">
                <a:solidFill>
                  <a:srgbClr val="000000"/>
                </a:solidFill>
                <a:latin typeface="Century Schoolbook"/>
              </a:rPr>
              <a:t>The passage of these smaller molecules through the plasma membranes of cells lining the stomach and Intestines and then into the blood and lymph is termed absorption.  </a:t>
            </a:r>
            <a:endParaRPr b="0" lang="en-US" sz="2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Schoolbook"/>
              </a:rPr>
              <a:t>                    </a:t>
            </a:r>
            <a:r>
              <a:rPr b="1" lang="en-US" sz="2600" spc="-1" strike="noStrike">
                <a:solidFill>
                  <a:srgbClr val="000000"/>
                </a:solidFill>
                <a:latin typeface="Century Schoolbook"/>
              </a:rPr>
              <a:t>The organs that collectively perform there function are collectively make a system known as Digestive System.</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0" y="0"/>
            <a:ext cx="9144000" cy="6858000"/>
          </a:xfrm>
          <a:prstGeom prst="rect">
            <a:avLst/>
          </a:prstGeom>
          <a:noFill/>
          <a:ln w="0">
            <a:noFill/>
          </a:ln>
        </p:spPr>
        <p:txBody>
          <a:bodyPr anchor="t">
            <a:normAutofit/>
          </a:bodyPr>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causes acidity of the chyme. When the acid chyme leaves stomach and enters intestine the acidity of the chyme causes release of harmonal secretion and cholisystokinin. These harmone </a:t>
            </a:r>
            <a:endParaRPr b="0" lang="en-US" sz="2800" spc="-1" strike="noStrike">
              <a:solidFill>
                <a:srgbClr val="000000"/>
              </a:solidFill>
              <a:latin typeface="Century Schoolbook"/>
            </a:endParaRPr>
          </a:p>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provides acid medium for the action of engymes.</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MECHANISM OF SECRETION OF GASTRIC JUICE:-</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cretion of pepsinogen- pepsinogen is synthesised from amino acid. The pepsinogen molecules are packed into zymogen granules by golgiapratu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0" y="0"/>
            <a:ext cx="9144000" cy="6858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When zymogen granules is secreted into stomach from cheap cells, the granules is dissolved and pepsinogen is released into gastric juice.</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epsinogen is activated into pepsin by HCL.</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Secretion of HCL: in the parital cells, the CO2 combines with water to form carbonic acid. The carbonic acid is formed in the presence of the engyme carbonic anhydrase. Carbonic acid is the most unstable compound and , immediately it opens into hydrogen ions and bicarbonate.</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hydrogen ions is actively pumped into the canaliculous of paritel cells. Simultaneously the chloride is also pumped canaliculous actively.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0" y="0"/>
            <a:ext cx="9144000" cy="68580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chloride is derived from sodium chloride of the blood. Now hydrogen ions combines with chloride ions to form HCL. To compensate the loss of chloride ion. The bicarbonate ion from parital cells enters the blood and combines with sodium to form sodium bicarbonate.</a:t>
            </a:r>
            <a:endParaRPr b="0" lang="en-US" sz="2800" spc="-1" strike="noStrike">
              <a:solidFill>
                <a:srgbClr val="000000"/>
              </a:solidFill>
              <a:latin typeface="Century Schoolboo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lang="en-US" sz="2800" spc="-1" strike="noStrike">
                <a:solidFill>
                  <a:srgbClr val="000000"/>
                </a:solidFill>
                <a:latin typeface="Century Schoolbook"/>
              </a:rPr>
              <a:t>CO2 + H2O + Nacl </a:t>
            </a:r>
            <a:r>
              <a:rPr b="1" lang="en-US" sz="2800" spc="-1" strike="noStrike">
                <a:solidFill>
                  <a:srgbClr val="000000"/>
                </a:solidFill>
                <a:latin typeface="Wingdings"/>
                <a:ea typeface="Wingdings"/>
              </a:rPr>
              <a:t></a:t>
            </a:r>
            <a:r>
              <a:rPr b="1" lang="en-US" sz="2800" spc="-1" strike="noStrike">
                <a:solidFill>
                  <a:srgbClr val="000000"/>
                </a:solidFill>
                <a:latin typeface="Century Schoolbook"/>
              </a:rPr>
              <a:t> HCL + NaHco3</a:t>
            </a:r>
            <a:endParaRPr b="0" lang="en-US" sz="2800" spc="-1" strike="noStrike">
              <a:solidFill>
                <a:srgbClr val="000000"/>
              </a:solidFill>
              <a:latin typeface="Century Schoolboo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Factors regulating the secreation of Hcl</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strin- stimulates acid secreation </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istamin- sitmulates acid secreation </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ntrogastrine- inhibits acid secrestion </a:t>
            </a:r>
            <a:endParaRPr b="0" lang="en-US" sz="2800" spc="-1" strike="noStrike">
              <a:solidFill>
                <a:srgbClr val="000000"/>
              </a:solidFill>
              <a:latin typeface="Century Schoolbook"/>
            </a:endParaRPr>
          </a:p>
          <a:p>
            <a:pPr marL="609480" indent="-60948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agal stimulation- increases acid secreation</a:t>
            </a:r>
            <a:endParaRPr b="0" lang="en-US" sz="2800" spc="-1" strike="noStrike">
              <a:solidFill>
                <a:srgbClr val="000000"/>
              </a:solidFill>
              <a:latin typeface="Century Schoolbook"/>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2" descr="\\Phoonk\D\My Pictures\Pictures\Amrita\Picture 021.jpg"/>
          <p:cNvPicPr/>
          <p:nvPr/>
        </p:nvPicPr>
        <p:blipFill>
          <a:blip r:embed="rId1"/>
          <a:stretch/>
        </p:blipFill>
        <p:spPr>
          <a:xfrm>
            <a:off x="0" y="1584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0" y="0"/>
            <a:ext cx="9144000" cy="685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1" lang="en-US" sz="2800" spc="-1" strike="noStrike">
                <a:solidFill>
                  <a:srgbClr val="000000"/>
                </a:solidFill>
                <a:latin typeface="Century Schoolbook"/>
              </a:rPr>
              <a:t>PHASES OF GASTRIC SECREATION</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creation of gastric juice occurs when the food is broken into the mouth. The mechanism involved in secreation are the neural and harmonal mechanism </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gastric  secreation occur in three phases:-</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epahlic phase.</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stric phase.</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estinal phase.</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1. </a:t>
            </a:r>
            <a:r>
              <a:rPr b="1" lang="en-US" sz="2800" spc="-1" strike="noStrike" u="sng">
                <a:solidFill>
                  <a:srgbClr val="000000"/>
                </a:solidFill>
                <a:uFillTx/>
                <a:latin typeface="Century Schoolbook"/>
              </a:rPr>
              <a:t>Cephalic phase:-</a:t>
            </a:r>
            <a:r>
              <a:rPr b="0" lang="en-US" sz="2800" spc="-1" strike="noStrike">
                <a:solidFill>
                  <a:srgbClr val="000000"/>
                </a:solidFill>
                <a:latin typeface="Century Schoolbook"/>
              </a:rPr>
              <a:t> this is purely under nervour control. while taking food the secreation of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0"/>
            <a:ext cx="9144000" cy="6858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stric juice starts before the food enters the stomach. The impulses are sent from head and so this phase is called cephalic phase. The gastric juice secreted in this phase is called epetite juice. This can occur as conditioned and unconditioned reflex. In both pepsinogen and Hcl are secreted.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UNCONDITIONED REFLEX:-</a:t>
            </a:r>
            <a:r>
              <a:rPr b="0" lang="en-US" sz="2800" spc="-1" strike="noStrike">
                <a:solidFill>
                  <a:srgbClr val="000000"/>
                </a:solidFill>
                <a:latin typeface="Century Schoolbook"/>
              </a:rPr>
              <a:t> This causes gastric secretion when food is placed in mouth. Afferent impulses arising from taste buds and other receptor in the mouth and reach the appetite center in amygdald and hypothalamu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0" y="0"/>
            <a:ext cx="9144000" cy="6858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rom here the efferent impulses pass through nucleus of vagus and vagal fiber to the wall of the stomach. The gastric secretion occurs by the release of acetylcholine.</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conditional reflex- in this even the site, smell or the thought of food causes gastric secretion. The impulses arising from cerebral coretx  reach stomach by passing through vagus.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2.</a:t>
            </a:r>
            <a:r>
              <a:rPr b="0" lang="en-US" sz="2800" spc="-1" strike="noStrike">
                <a:solidFill>
                  <a:srgbClr val="000000"/>
                </a:solidFill>
                <a:latin typeface="Century Schoolbook"/>
              </a:rPr>
              <a:t> </a:t>
            </a:r>
            <a:r>
              <a:rPr b="1" lang="en-US" sz="2800" spc="-1" strike="noStrike" u="sng">
                <a:solidFill>
                  <a:srgbClr val="000000"/>
                </a:solidFill>
                <a:uFillTx/>
                <a:latin typeface="Century Schoolbook"/>
              </a:rPr>
              <a:t>Gastric phase:-</a:t>
            </a:r>
            <a:r>
              <a:rPr b="0" lang="en-US" sz="2800" spc="-1" strike="noStrike">
                <a:solidFill>
                  <a:srgbClr val="000000"/>
                </a:solidFill>
                <a:latin typeface="Century Schoolbook"/>
              </a:rPr>
              <a:t> this phase is under nervous and hormonal center. When the food enters the stomach, secretion of gastric juice increases pepsinogen and Hcl are present in large quantity. The mechanism involved in gastric secretion are:-</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0" y="0"/>
            <a:ext cx="9144000" cy="6858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gastric mechanism</a:t>
            </a:r>
            <a:r>
              <a:rPr b="0" lang="en-US" sz="2800" spc="-1" strike="noStrike">
                <a:solidFill>
                  <a:srgbClr val="000000"/>
                </a:solidFill>
                <a:latin typeface="Century Schoolbook"/>
              </a:rPr>
              <a:t> – gastric is one of the gastrointestinal hormons. It is secreted by the G-cells present in pyloric glands of stomach small amount is also secreted in mucosa of upper small intestine. In fetus, it is also secreted by the ilets of langerhans in pancreas. The neuro transmitter is  gastrin releasing peptide released at vagal nerve ending. The gastrin releasing peptide acts on the G-cells and causes release of the hormon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0" y="0"/>
            <a:ext cx="9144000" cy="6858000"/>
          </a:xfrm>
          <a:prstGeom prst="rect">
            <a:avLst/>
          </a:prstGeom>
          <a:noFill/>
          <a:ln w="0">
            <a:noFill/>
          </a:ln>
        </p:spPr>
        <p:txBody>
          <a:bodyPr anchor="t">
            <a:normAutofit/>
          </a:bodyPr>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Gastric action:-</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stimulates the secretion of pepsinogen and Hcl by the gastric glands.</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increases the  motility of stomach </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promotes growth of gastric mucosa.</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causes secretion of pancretaic juice which is rich in enzyme </a:t>
            </a:r>
            <a:endParaRPr b="0" lang="en-US" sz="2800" spc="-1" strike="noStrike">
              <a:solidFill>
                <a:srgbClr val="000000"/>
              </a:solidFill>
              <a:latin typeface="Century Schoolbook"/>
            </a:endParaRPr>
          </a:p>
          <a:p>
            <a:pPr marL="609480" indent="-6094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also stimulates the production of harmone by pancreas.</a:t>
            </a: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3).  Intestinal-phase:-</a:t>
            </a:r>
            <a:r>
              <a:rPr b="0" lang="en-US" sz="2800" spc="-1" strike="noStrike">
                <a:solidFill>
                  <a:srgbClr val="000000"/>
                </a:solidFill>
                <a:latin typeface="Century Schoolbook"/>
              </a:rPr>
              <a:t> when the chyme leaves  </a:t>
            </a:r>
            <a:endParaRPr b="0" lang="en-US" sz="2800" spc="-1" strike="noStrike">
              <a:solidFill>
                <a:srgbClr val="000000"/>
              </a:solidFill>
              <a:latin typeface="Century Schoolbook"/>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0" y="0"/>
            <a:ext cx="9144000" cy="6858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  </a:t>
            </a:r>
            <a:r>
              <a:rPr b="1" lang="en-US" sz="3200" spc="-1" strike="noStrike" u="sng">
                <a:solidFill>
                  <a:srgbClr val="000000"/>
                </a:solidFill>
                <a:uFillTx/>
                <a:latin typeface="Century Schoolbook"/>
              </a:rPr>
              <a:t>Secretion of gastric juice at the initial stage intestinal phase:-</a:t>
            </a:r>
            <a:r>
              <a:rPr b="0" lang="en-US" sz="3200" spc="-1" strike="noStrike">
                <a:solidFill>
                  <a:srgbClr val="000000"/>
                </a:solidFill>
                <a:latin typeface="Century Schoolbook"/>
              </a:rPr>
              <a:t> when chyme leaves the stomach and enters the intestine, immediately the gastric juice is secreted by some cells into intestine. The gastrin is transported to stomach by blood. Now gastrine acts on glands of the stomach and causes the secretion of the gastric juice. </a:t>
            </a:r>
            <a:endParaRPr b="0" lang="en-US" sz="32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0" y="-360"/>
            <a:ext cx="9144000" cy="7162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1" name="Picture 2" descr="\\Cyber-02\My Documents\300px-Digestive_system_diagram_en_svg.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0" y="0"/>
            <a:ext cx="9144000" cy="6858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Inhibition of gastric secretion at the later stage of intestinal phase:-</a:t>
            </a:r>
            <a:r>
              <a:rPr b="0" lang="en-US" sz="2800" spc="-1" strike="noStrike">
                <a:solidFill>
                  <a:srgbClr val="000000"/>
                </a:solidFill>
                <a:latin typeface="Century Schoolbook"/>
              </a:rPr>
              <a:t> when chyme enters the intestine, after the initial secretion of gastric juice there is complete stoppage of secretion of gastric juice. This is due to enterogastron and some other harmonal substances:-</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1) Enterogastron:- is another gastro intestinal harmone secreated in the mucosa of duodenum. When acid chyme enters from stomach enterogastron inhibits gastric secreation and also gastric motality. This is the major hormone involved in intestinal phase.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0" y="0"/>
            <a:ext cx="9144000" cy="6858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2) Gastric inhibitory peptide(GIP):- This sercreated in duedenum and in jejunum. This is screated, when chyme containing glucose and fat enters the duodenum gastric inhibitory peptide inhibits the secreation of gastric juice and the motality of stomach. It also stimulates the ilets of langerhans in pancrease to release.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3) Vasoactive intestinal polypeptide:-(VIP)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is polypeptide is also secreated in intestine. This causes inhibition of secreation of Hcl in gastric juice. It also causes peripheral vasodilatation. The vasoactive intestinal polypeptide stimulates the secreation of succus entericus with more amount of electrolytes and water in the small intestin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VOMITING-</a:t>
            </a:r>
            <a:endParaRPr b="0" lang="en-US" sz="2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Vomiting or emesis is the forceble expulsion of the contents of the upper G.I.T (stomach and some times duodemun) through the mouth. The stongest stimuli for vomiting are irritation and distension of stomach. Other stimuli include unpleasent sights, general anasthesia, dizziness and certain drugs such as morthin and derevaties of digitalis. </a:t>
            </a:r>
            <a:endParaRPr b="0" lang="en-US" sz="2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          </a:t>
            </a:r>
            <a:r>
              <a:rPr b="0" lang="en-US" sz="2600" spc="-1" strike="noStrike">
                <a:solidFill>
                  <a:srgbClr val="000000"/>
                </a:solidFill>
                <a:latin typeface="Century Schoolbook"/>
              </a:rPr>
              <a:t>Nerve impulses are transmitted to the vomiting centre in the medulla oblongata and returning impules propoget to the upper G.I.T organs, Diaphragm and abdorminal muscles. Vomiting involves squeezing in the stomach between the diaphragm and abdorminal muscles and expelling the contents through open esophagus sphictor prolonged vomiting.</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GASTRITIT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nflamation of gastrick mucous membrane is called Gastrititis following are the causes gastrititi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tion of irritant foods substances like alcohol on the mucus membrane of stomach.</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cessive distruction of gastric mucus membrane by pepticactivit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EPTRIC ULC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the injured part of the mucus membrane in the stomach. The damage GImucosa occurs by the digestive activity of gastric juice. It is due to peptic activity or the hyper  acidity in stomach, duodenum and jejunum.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uses of Peptic Ulcer</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cessive secration of acid in stomach.</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cessive secretion of pepsi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reased alkalinity of the intestin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0" y="0"/>
            <a:ext cx="9144000" cy="6858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PANCREASE:</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From the stomach, chyme passes into the small intestine. Because chemical digestion in the small intestine depends on activities of the pancrease liver and gallbladder we first consider the activities of these accessory digestive organs and their contributions to digestion in the small intestin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txBox="1"/>
          <p:nvPr/>
        </p:nvSpPr>
        <p:spPr>
          <a:xfrm>
            <a:off x="0" y="0"/>
            <a:ext cx="9144000" cy="6858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Schoolbook"/>
              </a:rPr>
              <a:t>ANATOMY OF PANCREASE:-</a:t>
            </a:r>
            <a:endParaRPr b="0" lang="en-US" sz="3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800" spc="-1" strike="noStrike">
                <a:solidFill>
                  <a:srgbClr val="000000"/>
                </a:solidFill>
                <a:latin typeface="Century Schoolbook"/>
              </a:rPr>
              <a:t>The pancrease (pan=all, creas=flesh a retroperitoneal gland that is about 12-15 cm (5-6inch) long and 2.5cm (1 inch) the stomach. The pancrease consist of a head duodenum usually by two ducts.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Pancreatic juices from the exocrine cells into small ducts that ultimately uilte to form two larger ducts that convey the secretion into the small intestine. The larger of the two ducts is called pancreatic duct (duct of wirsung). In most people the pancreatic duct joins the common bile duct from the liver and gallbladder and enters the duodenum as a common duct called the Hepatopancrreatic Ampulla(Ampulla of vater).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mpulla opens on an elevation of the duodenal mucose known as the major duodenal papilla which lies about 10 cm(4 inch) inferior to the pyloric sphincter of the stomach. The smaller of the two ducts, the accessory duct (duct of santorini) leads from the pancreas and empties into the duodenum about 2.5cm (1inch) superior to the hepatopancreatic apulla.</a:t>
            </a:r>
            <a:r>
              <a:rPr b="1"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HISTOLOGY OF THE PANCREA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pancrease is made up of small clusters of glandular epithilial cells about 99% of which are arranged in clusters called acini and constitute the exocrine portion of the organ.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0" y="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cells nutrient acini secrete a mixture of fluid and digestive enzymes called pancreatic juice. The remaining 1% of the cells are organized into clusters called pancreatic islets (islets of langerhands), the endocrine portion of the pancreas. These cells secrete the harmones glucogen, insuline, somatostatin and pancreatic polypeptid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COMPOSITION OF PANCRAETIC JUICE:- </a:t>
            </a:r>
            <a:r>
              <a:rPr b="0" lang="en-US" sz="2800" spc="-1" strike="noStrike">
                <a:solidFill>
                  <a:srgbClr val="000000"/>
                </a:solidFill>
                <a:latin typeface="Century Schoolbook"/>
              </a:rPr>
              <a:t>pancreatic juice contains 99.5% of water and 0.5% of solids. The solids are the organic subtanc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txBox="1"/>
          <p:nvPr/>
        </p:nvSpPr>
        <p:spPr>
          <a:xfrm>
            <a:off x="0" y="76320"/>
            <a:ext cx="9144000" cy="6858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Organic substances of pancreatic juic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organic substance present are enzymes and other organic substance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NZYMES OF PANCREATIC JUIC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ancreatic juice contains the following proteolitic, lipolytic &amp; amylolytic enzymes:-</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TEOLYTIC ENZYMES:- Trypsin, chymotrypsins, carboxypeptides, Nucleus, elastase, collagenase.</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YPOLYTIC ENZYMES:- Pancreatic lipase, phopholipase A-B.</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MYLOLITIC ENZYMES:- Pancreatic amylas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ther organic substances:- Albumin &amp; globulin.</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Inorganic substance:- Na, ca, k, Mg, Bicrbonates, chloride, sulphtate &amp; phosphate.</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he bi-carbonate content is very high in pancreatic juice. This higher concentration is responsible for the alkalinity of pancreatic juice.</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entury Schoolbook"/>
              </a:rPr>
              <a:t>FUNCTION OF PANCREATIC JUICE:-</a:t>
            </a:r>
            <a:endParaRPr b="0" lang="en-US" sz="2800" spc="-1" strike="noStrike">
              <a:solidFill>
                <a:srgbClr val="000000"/>
              </a:solidFill>
              <a:latin typeface="Century Schoolbook"/>
            </a:endParaRPr>
          </a:p>
          <a:p>
            <a:pPr marL="609480" indent="-609480">
              <a:lnSpc>
                <a:spcPct val="9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gestive Function:- Digestive juice takes important role in the digestion of proteins &amp; lipids. It also digest the carbohydrates.</a:t>
            </a:r>
            <a:endParaRPr b="0" lang="en-US" sz="2800" spc="-1" strike="noStrike">
              <a:solidFill>
                <a:srgbClr val="000000"/>
              </a:solidFill>
              <a:latin typeface="Century Schoolbook"/>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 Digestion of protein:- Trypsin:- This is secreted as inactive Trypsinogen is converted into trypsin by the enzymes Trypsinogen.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2:19:09Z</dcterms:created>
  <dc:creator>SAMRIDDHI</dc:creator>
  <dc:description/>
  <dc:language>en-US</dc:language>
  <cp:lastModifiedBy>Arvind </cp:lastModifiedBy>
  <dcterms:modified xsi:type="dcterms:W3CDTF">2012-12-25T20:52:26Z</dcterms:modified>
  <cp:revision>233</cp:revision>
  <dc:subject/>
  <dc:title>Slide 1</dc:title>
</cp:coreProperties>
</file>